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33" name="PlaceHolder 2"/>
          <p:cNvSpPr>
            <a:spLocks noGrp="1"/>
          </p:cNvSpPr>
          <p:nvPr>
            <p:ph/>
          </p:nvPr>
        </p:nvSpPr>
        <p:spPr>
          <a:xfrm>
            <a:off x="1066680" y="167616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36"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41" name="PlaceHolder 2"/>
          <p:cNvSpPr>
            <a:spLocks noGrp="1"/>
          </p:cNvSpPr>
          <p:nvPr>
            <p:ph/>
          </p:nvPr>
        </p:nvSpPr>
        <p:spPr>
          <a:xfrm>
            <a:off x="10666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3"/>
          <p:cNvSpPr>
            <a:spLocks noGrp="1"/>
          </p:cNvSpPr>
          <p:nvPr>
            <p:ph/>
          </p:nvPr>
        </p:nvSpPr>
        <p:spPr>
          <a:xfrm>
            <a:off x="369396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4"/>
          <p:cNvSpPr>
            <a:spLocks noGrp="1"/>
          </p:cNvSpPr>
          <p:nvPr>
            <p:ph/>
          </p:nvPr>
        </p:nvSpPr>
        <p:spPr>
          <a:xfrm>
            <a:off x="63208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5"/>
          <p:cNvSpPr>
            <a:spLocks noGrp="1"/>
          </p:cNvSpPr>
          <p:nvPr>
            <p:ph/>
          </p:nvPr>
        </p:nvSpPr>
        <p:spPr>
          <a:xfrm>
            <a:off x="10666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6"/>
          <p:cNvSpPr>
            <a:spLocks noGrp="1"/>
          </p:cNvSpPr>
          <p:nvPr>
            <p:ph/>
          </p:nvPr>
        </p:nvSpPr>
        <p:spPr>
          <a:xfrm>
            <a:off x="369396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7"/>
          <p:cNvSpPr>
            <a:spLocks noGrp="1"/>
          </p:cNvSpPr>
          <p:nvPr>
            <p:ph/>
          </p:nvPr>
        </p:nvSpPr>
        <p:spPr>
          <a:xfrm>
            <a:off x="63208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0" name="PlaceHolder 2"/>
          <p:cNvSpPr>
            <a:spLocks noGrp="1"/>
          </p:cNvSpPr>
          <p:nvPr>
            <p:ph type="subTitle"/>
          </p:nvPr>
        </p:nvSpPr>
        <p:spPr>
          <a:xfrm>
            <a:off x="1066680" y="1676160"/>
            <a:ext cx="7769520" cy="411156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2" name="PlaceHolder 2"/>
          <p:cNvSpPr>
            <a:spLocks noGrp="1"/>
          </p:cNvSpPr>
          <p:nvPr>
            <p:ph/>
          </p:nvPr>
        </p:nvSpPr>
        <p:spPr>
          <a:xfrm>
            <a:off x="1066680" y="1676160"/>
            <a:ext cx="7769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4"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680" y="58680"/>
            <a:ext cx="7769520" cy="64260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9"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2" name="PlaceHolder 2"/>
          <p:cNvSpPr>
            <a:spLocks noGrp="1"/>
          </p:cNvSpPr>
          <p:nvPr>
            <p:ph type="subTitle"/>
          </p:nvPr>
        </p:nvSpPr>
        <p:spPr>
          <a:xfrm>
            <a:off x="1066680" y="1676160"/>
            <a:ext cx="7769520" cy="411156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73"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77"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1" name="PlaceHolder 2"/>
          <p:cNvSpPr>
            <a:spLocks noGrp="1"/>
          </p:cNvSpPr>
          <p:nvPr>
            <p:ph/>
          </p:nvPr>
        </p:nvSpPr>
        <p:spPr>
          <a:xfrm>
            <a:off x="1066680" y="167616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3"/>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4"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5"/>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9" name="PlaceHolder 2"/>
          <p:cNvSpPr>
            <a:spLocks noGrp="1"/>
          </p:cNvSpPr>
          <p:nvPr>
            <p:ph/>
          </p:nvPr>
        </p:nvSpPr>
        <p:spPr>
          <a:xfrm>
            <a:off x="10666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369396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63208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10666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6"/>
          <p:cNvSpPr>
            <a:spLocks noGrp="1"/>
          </p:cNvSpPr>
          <p:nvPr>
            <p:ph/>
          </p:nvPr>
        </p:nvSpPr>
        <p:spPr>
          <a:xfrm>
            <a:off x="369396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7"/>
          <p:cNvSpPr>
            <a:spLocks noGrp="1"/>
          </p:cNvSpPr>
          <p:nvPr>
            <p:ph/>
          </p:nvPr>
        </p:nvSpPr>
        <p:spPr>
          <a:xfrm>
            <a:off x="63208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4" name="PlaceHolder 2"/>
          <p:cNvSpPr>
            <a:spLocks noGrp="1"/>
          </p:cNvSpPr>
          <p:nvPr>
            <p:ph/>
          </p:nvPr>
        </p:nvSpPr>
        <p:spPr>
          <a:xfrm>
            <a:off x="1066680" y="1676160"/>
            <a:ext cx="7769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6"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58680"/>
            <a:ext cx="7769520" cy="64260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70160" cy="2709720"/>
          </a:xfrm>
          <a:custGeom>
            <a:avLst/>
            <a:gdLst/>
            <a:ahLst/>
            <a:rect l="l" t="t" r="r" b="b"/>
            <a:pathLst>
              <a:path w="6306" h="7528">
                <a:moveTo>
                  <a:pt x="3564" y="1247"/>
                </a:moveTo>
                <a:lnTo>
                  <a:pt x="2969" y="1110"/>
                </a:lnTo>
                <a:lnTo>
                  <a:pt x="2885" y="0"/>
                </a:lnTo>
                <a:lnTo>
                  <a:pt x="2153" y="56"/>
                </a:lnTo>
                <a:lnTo>
                  <a:pt x="2099" y="1110"/>
                </a:lnTo>
                <a:lnTo>
                  <a:pt x="1609" y="1277"/>
                </a:lnTo>
                <a:lnTo>
                  <a:pt x="908" y="378"/>
                </a:lnTo>
                <a:lnTo>
                  <a:pt x="419" y="651"/>
                </a:lnTo>
                <a:lnTo>
                  <a:pt x="882" y="1657"/>
                </a:lnTo>
                <a:lnTo>
                  <a:pt x="555" y="1983"/>
                </a:lnTo>
                <a:lnTo>
                  <a:pt x="0" y="1864"/>
                </a:lnTo>
                <a:lnTo>
                  <a:pt x="0" y="5613"/>
                </a:lnTo>
                <a:lnTo>
                  <a:pt x="445" y="5405"/>
                </a:lnTo>
                <a:lnTo>
                  <a:pt x="798" y="5758"/>
                </a:lnTo>
                <a:lnTo>
                  <a:pt x="308" y="6653"/>
                </a:lnTo>
                <a:lnTo>
                  <a:pt x="771" y="7037"/>
                </a:lnTo>
                <a:lnTo>
                  <a:pt x="1609" y="6221"/>
                </a:lnTo>
                <a:lnTo>
                  <a:pt x="2099" y="6384"/>
                </a:lnTo>
                <a:lnTo>
                  <a:pt x="2210" y="7496"/>
                </a:lnTo>
                <a:lnTo>
                  <a:pt x="2942" y="7527"/>
                </a:lnTo>
                <a:lnTo>
                  <a:pt x="3022" y="6358"/>
                </a:lnTo>
                <a:lnTo>
                  <a:pt x="3644" y="6195"/>
                </a:lnTo>
                <a:lnTo>
                  <a:pt x="4381" y="7011"/>
                </a:lnTo>
                <a:lnTo>
                  <a:pt x="4867" y="6711"/>
                </a:lnTo>
                <a:lnTo>
                  <a:pt x="4381" y="5732"/>
                </a:lnTo>
                <a:lnTo>
                  <a:pt x="4708" y="5321"/>
                </a:lnTo>
                <a:lnTo>
                  <a:pt x="5683" y="5785"/>
                </a:lnTo>
                <a:lnTo>
                  <a:pt x="5978" y="5273"/>
                </a:lnTo>
                <a:lnTo>
                  <a:pt x="5087" y="4616"/>
                </a:lnTo>
                <a:lnTo>
                  <a:pt x="5193" y="4047"/>
                </a:lnTo>
                <a:lnTo>
                  <a:pt x="6305" y="3941"/>
                </a:lnTo>
                <a:lnTo>
                  <a:pt x="6278" y="3368"/>
                </a:lnTo>
                <a:lnTo>
                  <a:pt x="5167" y="3205"/>
                </a:lnTo>
                <a:lnTo>
                  <a:pt x="5056" y="2772"/>
                </a:lnTo>
                <a:lnTo>
                  <a:pt x="5952" y="2146"/>
                </a:lnTo>
                <a:lnTo>
                  <a:pt x="5656" y="1630"/>
                </a:lnTo>
                <a:lnTo>
                  <a:pt x="4650" y="2036"/>
                </a:lnTo>
                <a:lnTo>
                  <a:pt x="4324" y="1710"/>
                </a:lnTo>
                <a:lnTo>
                  <a:pt x="4840" y="761"/>
                </a:lnTo>
                <a:lnTo>
                  <a:pt x="4351" y="462"/>
                </a:lnTo>
                <a:lnTo>
                  <a:pt x="3564" y="1247"/>
                </a:lnTo>
                <a:lnTo>
                  <a:pt x="3564" y="1247"/>
                </a:lnTo>
              </a:path>
            </a:pathLst>
          </a:custGeom>
          <a:gradFill rotWithShape="0">
            <a:gsLst>
              <a:gs pos="0">
                <a:srgbClr val="fbf8e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08000" y="15840"/>
            <a:ext cx="838080" cy="787320"/>
          </a:xfrm>
          <a:custGeom>
            <a:avLst/>
            <a:gdLst/>
            <a:ahLst/>
            <a:rect l="l" t="t" r="r" b="b"/>
            <a:pathLst>
              <a:path w="2329" h="2188">
                <a:moveTo>
                  <a:pt x="1476" y="246"/>
                </a:moveTo>
                <a:lnTo>
                  <a:pt x="1291" y="201"/>
                </a:lnTo>
                <a:lnTo>
                  <a:pt x="1269" y="0"/>
                </a:lnTo>
                <a:lnTo>
                  <a:pt x="1048" y="0"/>
                </a:lnTo>
                <a:lnTo>
                  <a:pt x="1022" y="201"/>
                </a:lnTo>
                <a:lnTo>
                  <a:pt x="872" y="254"/>
                </a:lnTo>
                <a:lnTo>
                  <a:pt x="643" y="0"/>
                </a:lnTo>
                <a:lnTo>
                  <a:pt x="501" y="60"/>
                </a:lnTo>
                <a:lnTo>
                  <a:pt x="647" y="369"/>
                </a:lnTo>
                <a:lnTo>
                  <a:pt x="545" y="471"/>
                </a:lnTo>
                <a:lnTo>
                  <a:pt x="219" y="356"/>
                </a:lnTo>
                <a:lnTo>
                  <a:pt x="140" y="479"/>
                </a:lnTo>
                <a:lnTo>
                  <a:pt x="395" y="700"/>
                </a:lnTo>
                <a:lnTo>
                  <a:pt x="351" y="868"/>
                </a:lnTo>
                <a:lnTo>
                  <a:pt x="7" y="890"/>
                </a:lnTo>
                <a:lnTo>
                  <a:pt x="0" y="1075"/>
                </a:lnTo>
                <a:lnTo>
                  <a:pt x="351" y="1128"/>
                </a:lnTo>
                <a:lnTo>
                  <a:pt x="387" y="1287"/>
                </a:lnTo>
                <a:lnTo>
                  <a:pt x="126" y="1520"/>
                </a:lnTo>
                <a:lnTo>
                  <a:pt x="219" y="1666"/>
                </a:lnTo>
                <a:lnTo>
                  <a:pt x="510" y="1529"/>
                </a:lnTo>
                <a:lnTo>
                  <a:pt x="620" y="1640"/>
                </a:lnTo>
                <a:lnTo>
                  <a:pt x="470" y="1917"/>
                </a:lnTo>
                <a:lnTo>
                  <a:pt x="612" y="2037"/>
                </a:lnTo>
                <a:lnTo>
                  <a:pt x="872" y="1781"/>
                </a:lnTo>
                <a:lnTo>
                  <a:pt x="1022" y="1834"/>
                </a:lnTo>
                <a:lnTo>
                  <a:pt x="1057" y="2178"/>
                </a:lnTo>
                <a:lnTo>
                  <a:pt x="1287" y="2187"/>
                </a:lnTo>
                <a:lnTo>
                  <a:pt x="1309" y="1825"/>
                </a:lnTo>
                <a:lnTo>
                  <a:pt x="1503" y="1776"/>
                </a:lnTo>
                <a:lnTo>
                  <a:pt x="1732" y="2028"/>
                </a:lnTo>
                <a:lnTo>
                  <a:pt x="1882" y="1935"/>
                </a:lnTo>
                <a:lnTo>
                  <a:pt x="1732" y="1631"/>
                </a:lnTo>
                <a:lnTo>
                  <a:pt x="1833" y="1503"/>
                </a:lnTo>
                <a:lnTo>
                  <a:pt x="2133" y="1648"/>
                </a:lnTo>
                <a:lnTo>
                  <a:pt x="2226" y="1490"/>
                </a:lnTo>
                <a:lnTo>
                  <a:pt x="1948" y="1287"/>
                </a:lnTo>
                <a:lnTo>
                  <a:pt x="1983" y="1110"/>
                </a:lnTo>
                <a:lnTo>
                  <a:pt x="2328" y="1075"/>
                </a:lnTo>
                <a:lnTo>
                  <a:pt x="2319" y="898"/>
                </a:lnTo>
                <a:lnTo>
                  <a:pt x="1975" y="850"/>
                </a:lnTo>
                <a:lnTo>
                  <a:pt x="1939" y="713"/>
                </a:lnTo>
                <a:lnTo>
                  <a:pt x="2217" y="523"/>
                </a:lnTo>
                <a:lnTo>
                  <a:pt x="2125" y="360"/>
                </a:lnTo>
                <a:lnTo>
                  <a:pt x="1816" y="488"/>
                </a:lnTo>
                <a:lnTo>
                  <a:pt x="1714" y="387"/>
                </a:lnTo>
                <a:lnTo>
                  <a:pt x="1873" y="91"/>
                </a:lnTo>
                <a:lnTo>
                  <a:pt x="1723" y="0"/>
                </a:lnTo>
                <a:lnTo>
                  <a:pt x="1476" y="246"/>
                </a:lnTo>
                <a:lnTo>
                  <a:pt x="1476" y="246"/>
                </a:lnTo>
              </a:path>
            </a:pathLst>
          </a:custGeom>
          <a:gradFill rotWithShape="0">
            <a:gsLst>
              <a:gs pos="0">
                <a:srgbClr val="cac0e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192320" y="353880"/>
            <a:ext cx="2266920" cy="2270160"/>
          </a:xfrm>
          <a:custGeom>
            <a:avLst/>
            <a:gdLst/>
            <a:ahLst/>
            <a:rect l="l" t="t" r="r" b="b"/>
            <a:pathLst>
              <a:path w="6298" h="6307">
                <a:moveTo>
                  <a:pt x="4000" y="1046"/>
                </a:moveTo>
                <a:lnTo>
                  <a:pt x="3499" y="931"/>
                </a:lnTo>
                <a:lnTo>
                  <a:pt x="3431" y="0"/>
                </a:lnTo>
                <a:lnTo>
                  <a:pt x="2818" y="45"/>
                </a:lnTo>
                <a:lnTo>
                  <a:pt x="2772" y="931"/>
                </a:lnTo>
                <a:lnTo>
                  <a:pt x="2363" y="1070"/>
                </a:lnTo>
                <a:lnTo>
                  <a:pt x="1772" y="318"/>
                </a:lnTo>
                <a:lnTo>
                  <a:pt x="1363" y="547"/>
                </a:lnTo>
                <a:lnTo>
                  <a:pt x="1750" y="1386"/>
                </a:lnTo>
                <a:lnTo>
                  <a:pt x="1478" y="1662"/>
                </a:lnTo>
                <a:lnTo>
                  <a:pt x="590" y="1343"/>
                </a:lnTo>
                <a:lnTo>
                  <a:pt x="385" y="1684"/>
                </a:lnTo>
                <a:lnTo>
                  <a:pt x="1066" y="2275"/>
                </a:lnTo>
                <a:lnTo>
                  <a:pt x="955" y="2731"/>
                </a:lnTo>
                <a:lnTo>
                  <a:pt x="20" y="2799"/>
                </a:lnTo>
                <a:lnTo>
                  <a:pt x="0" y="3301"/>
                </a:lnTo>
                <a:lnTo>
                  <a:pt x="955" y="3437"/>
                </a:lnTo>
                <a:lnTo>
                  <a:pt x="1045" y="3868"/>
                </a:lnTo>
                <a:lnTo>
                  <a:pt x="339" y="4506"/>
                </a:lnTo>
                <a:lnTo>
                  <a:pt x="590" y="4893"/>
                </a:lnTo>
                <a:lnTo>
                  <a:pt x="1385" y="4528"/>
                </a:lnTo>
                <a:lnTo>
                  <a:pt x="1682" y="4825"/>
                </a:lnTo>
                <a:lnTo>
                  <a:pt x="1271" y="5575"/>
                </a:lnTo>
                <a:lnTo>
                  <a:pt x="1657" y="5894"/>
                </a:lnTo>
                <a:lnTo>
                  <a:pt x="2363" y="5212"/>
                </a:lnTo>
                <a:lnTo>
                  <a:pt x="2772" y="5348"/>
                </a:lnTo>
                <a:lnTo>
                  <a:pt x="2864" y="6281"/>
                </a:lnTo>
                <a:lnTo>
                  <a:pt x="3477" y="6306"/>
                </a:lnTo>
                <a:lnTo>
                  <a:pt x="3545" y="5327"/>
                </a:lnTo>
                <a:lnTo>
                  <a:pt x="4068" y="5190"/>
                </a:lnTo>
                <a:lnTo>
                  <a:pt x="4684" y="5872"/>
                </a:lnTo>
                <a:lnTo>
                  <a:pt x="5092" y="5621"/>
                </a:lnTo>
                <a:lnTo>
                  <a:pt x="4684" y="4803"/>
                </a:lnTo>
                <a:lnTo>
                  <a:pt x="4956" y="4459"/>
                </a:lnTo>
                <a:lnTo>
                  <a:pt x="5773" y="4847"/>
                </a:lnTo>
                <a:lnTo>
                  <a:pt x="6024" y="4416"/>
                </a:lnTo>
                <a:lnTo>
                  <a:pt x="5275" y="3868"/>
                </a:lnTo>
                <a:lnTo>
                  <a:pt x="5365" y="3391"/>
                </a:lnTo>
                <a:lnTo>
                  <a:pt x="6297" y="3301"/>
                </a:lnTo>
                <a:lnTo>
                  <a:pt x="6275" y="2821"/>
                </a:lnTo>
                <a:lnTo>
                  <a:pt x="5343" y="2684"/>
                </a:lnTo>
                <a:lnTo>
                  <a:pt x="5250" y="2322"/>
                </a:lnTo>
                <a:lnTo>
                  <a:pt x="6002" y="1798"/>
                </a:lnTo>
                <a:lnTo>
                  <a:pt x="5752" y="1365"/>
                </a:lnTo>
                <a:lnTo>
                  <a:pt x="4910" y="1705"/>
                </a:lnTo>
                <a:lnTo>
                  <a:pt x="4638" y="1433"/>
                </a:lnTo>
                <a:lnTo>
                  <a:pt x="5068" y="637"/>
                </a:lnTo>
                <a:lnTo>
                  <a:pt x="4659" y="386"/>
                </a:lnTo>
                <a:lnTo>
                  <a:pt x="4000" y="1046"/>
                </a:lnTo>
                <a:lnTo>
                  <a:pt x="4000" y="1046"/>
                </a:lnTo>
              </a:path>
            </a:pathLst>
          </a:custGeom>
          <a:gradFill rotWithShape="0">
            <a:gsLst>
              <a:gs pos="0">
                <a:srgbClr val="fcfaf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532240" y="1270080"/>
            <a:ext cx="3670200" cy="3671640"/>
          </a:xfrm>
          <a:custGeom>
            <a:avLst/>
            <a:gdLst/>
            <a:ahLst/>
            <a:rect l="l" t="t" r="r" b="b"/>
            <a:pathLst>
              <a:path w="10196" h="10200">
                <a:moveTo>
                  <a:pt x="6477" y="1692"/>
                </a:moveTo>
                <a:lnTo>
                  <a:pt x="5665" y="1507"/>
                </a:lnTo>
                <a:lnTo>
                  <a:pt x="5555" y="0"/>
                </a:lnTo>
                <a:lnTo>
                  <a:pt x="4563" y="73"/>
                </a:lnTo>
                <a:lnTo>
                  <a:pt x="4488" y="1507"/>
                </a:lnTo>
                <a:lnTo>
                  <a:pt x="3826" y="1732"/>
                </a:lnTo>
                <a:lnTo>
                  <a:pt x="2869" y="514"/>
                </a:lnTo>
                <a:lnTo>
                  <a:pt x="2208" y="885"/>
                </a:lnTo>
                <a:lnTo>
                  <a:pt x="2834" y="2243"/>
                </a:lnTo>
                <a:lnTo>
                  <a:pt x="2393" y="2689"/>
                </a:lnTo>
                <a:lnTo>
                  <a:pt x="955" y="2173"/>
                </a:lnTo>
                <a:lnTo>
                  <a:pt x="625" y="2724"/>
                </a:lnTo>
                <a:lnTo>
                  <a:pt x="1727" y="3681"/>
                </a:lnTo>
                <a:lnTo>
                  <a:pt x="1546" y="4417"/>
                </a:lnTo>
                <a:lnTo>
                  <a:pt x="34" y="4527"/>
                </a:lnTo>
                <a:lnTo>
                  <a:pt x="0" y="5339"/>
                </a:lnTo>
                <a:lnTo>
                  <a:pt x="1546" y="5559"/>
                </a:lnTo>
                <a:lnTo>
                  <a:pt x="1692" y="6256"/>
                </a:lnTo>
                <a:lnTo>
                  <a:pt x="550" y="7288"/>
                </a:lnTo>
                <a:lnTo>
                  <a:pt x="955" y="7914"/>
                </a:lnTo>
                <a:lnTo>
                  <a:pt x="2243" y="7323"/>
                </a:lnTo>
                <a:lnTo>
                  <a:pt x="2724" y="7804"/>
                </a:lnTo>
                <a:lnTo>
                  <a:pt x="2058" y="9017"/>
                </a:lnTo>
                <a:lnTo>
                  <a:pt x="2684" y="9533"/>
                </a:lnTo>
                <a:lnTo>
                  <a:pt x="3826" y="8430"/>
                </a:lnTo>
                <a:lnTo>
                  <a:pt x="4488" y="8651"/>
                </a:lnTo>
                <a:lnTo>
                  <a:pt x="4638" y="10159"/>
                </a:lnTo>
                <a:lnTo>
                  <a:pt x="5630" y="10199"/>
                </a:lnTo>
                <a:lnTo>
                  <a:pt x="5740" y="8615"/>
                </a:lnTo>
                <a:lnTo>
                  <a:pt x="6587" y="8395"/>
                </a:lnTo>
                <a:lnTo>
                  <a:pt x="7584" y="9497"/>
                </a:lnTo>
                <a:lnTo>
                  <a:pt x="8245" y="9092"/>
                </a:lnTo>
                <a:lnTo>
                  <a:pt x="7584" y="7769"/>
                </a:lnTo>
                <a:lnTo>
                  <a:pt x="8025" y="7213"/>
                </a:lnTo>
                <a:lnTo>
                  <a:pt x="9348" y="7839"/>
                </a:lnTo>
                <a:lnTo>
                  <a:pt x="9753" y="7142"/>
                </a:lnTo>
                <a:lnTo>
                  <a:pt x="8541" y="6256"/>
                </a:lnTo>
                <a:lnTo>
                  <a:pt x="8686" y="5484"/>
                </a:lnTo>
                <a:lnTo>
                  <a:pt x="10195" y="5339"/>
                </a:lnTo>
                <a:lnTo>
                  <a:pt x="10159" y="4563"/>
                </a:lnTo>
                <a:lnTo>
                  <a:pt x="8651" y="4342"/>
                </a:lnTo>
                <a:lnTo>
                  <a:pt x="8501" y="3756"/>
                </a:lnTo>
                <a:lnTo>
                  <a:pt x="9718" y="2909"/>
                </a:lnTo>
                <a:lnTo>
                  <a:pt x="9312" y="2208"/>
                </a:lnTo>
                <a:lnTo>
                  <a:pt x="7950" y="2759"/>
                </a:lnTo>
                <a:lnTo>
                  <a:pt x="7509" y="2318"/>
                </a:lnTo>
                <a:lnTo>
                  <a:pt x="8206" y="1030"/>
                </a:lnTo>
                <a:lnTo>
                  <a:pt x="7544" y="625"/>
                </a:lnTo>
                <a:lnTo>
                  <a:pt x="6477" y="1692"/>
                </a:lnTo>
                <a:lnTo>
                  <a:pt x="6477" y="1692"/>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 y="4797360"/>
            <a:ext cx="3417840" cy="2097000"/>
          </a:xfrm>
          <a:custGeom>
            <a:avLst/>
            <a:gdLst/>
            <a:ahLst/>
            <a:rect l="l" t="t" r="r" b="b"/>
            <a:pathLst>
              <a:path w="9495" h="5826">
                <a:moveTo>
                  <a:pt x="6032" y="1577"/>
                </a:moveTo>
                <a:lnTo>
                  <a:pt x="5277" y="1401"/>
                </a:lnTo>
                <a:lnTo>
                  <a:pt x="5172" y="0"/>
                </a:lnTo>
                <a:lnTo>
                  <a:pt x="4250" y="69"/>
                </a:lnTo>
                <a:lnTo>
                  <a:pt x="4179" y="1401"/>
                </a:lnTo>
                <a:lnTo>
                  <a:pt x="3562" y="1613"/>
                </a:lnTo>
                <a:lnTo>
                  <a:pt x="2671" y="479"/>
                </a:lnTo>
                <a:lnTo>
                  <a:pt x="2058" y="823"/>
                </a:lnTo>
                <a:lnTo>
                  <a:pt x="2640" y="2089"/>
                </a:lnTo>
                <a:lnTo>
                  <a:pt x="2230" y="2504"/>
                </a:lnTo>
                <a:lnTo>
                  <a:pt x="889" y="2023"/>
                </a:lnTo>
                <a:lnTo>
                  <a:pt x="581" y="2539"/>
                </a:lnTo>
                <a:lnTo>
                  <a:pt x="1608" y="3430"/>
                </a:lnTo>
                <a:lnTo>
                  <a:pt x="1441" y="4113"/>
                </a:lnTo>
                <a:lnTo>
                  <a:pt x="29" y="4215"/>
                </a:lnTo>
                <a:lnTo>
                  <a:pt x="0" y="4973"/>
                </a:lnTo>
                <a:lnTo>
                  <a:pt x="1441" y="5176"/>
                </a:lnTo>
                <a:lnTo>
                  <a:pt x="1577" y="5825"/>
                </a:lnTo>
                <a:lnTo>
                  <a:pt x="7954" y="5825"/>
                </a:lnTo>
                <a:lnTo>
                  <a:pt x="8091" y="5106"/>
                </a:lnTo>
                <a:lnTo>
                  <a:pt x="9494" y="4973"/>
                </a:lnTo>
                <a:lnTo>
                  <a:pt x="9463" y="4250"/>
                </a:lnTo>
                <a:lnTo>
                  <a:pt x="8056" y="4043"/>
                </a:lnTo>
                <a:lnTo>
                  <a:pt x="7915" y="3496"/>
                </a:lnTo>
                <a:lnTo>
                  <a:pt x="9048" y="2711"/>
                </a:lnTo>
                <a:lnTo>
                  <a:pt x="8673" y="2058"/>
                </a:lnTo>
                <a:lnTo>
                  <a:pt x="7403" y="2570"/>
                </a:lnTo>
                <a:lnTo>
                  <a:pt x="6993" y="2160"/>
                </a:lnTo>
                <a:lnTo>
                  <a:pt x="7641" y="960"/>
                </a:lnTo>
                <a:lnTo>
                  <a:pt x="7024" y="581"/>
                </a:lnTo>
                <a:lnTo>
                  <a:pt x="6032" y="1577"/>
                </a:lnTo>
                <a:lnTo>
                  <a:pt x="6032" y="1577"/>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494240" y="4425840"/>
            <a:ext cx="2263680" cy="2265480"/>
          </a:xfrm>
          <a:custGeom>
            <a:avLst/>
            <a:gdLst/>
            <a:ahLst/>
            <a:rect l="l" t="t" r="r" b="b"/>
            <a:pathLst>
              <a:path w="6289" h="6293">
                <a:moveTo>
                  <a:pt x="3995" y="1044"/>
                </a:moveTo>
                <a:lnTo>
                  <a:pt x="3495" y="930"/>
                </a:lnTo>
                <a:lnTo>
                  <a:pt x="3427" y="0"/>
                </a:lnTo>
                <a:lnTo>
                  <a:pt x="2815" y="46"/>
                </a:lnTo>
                <a:lnTo>
                  <a:pt x="2769" y="930"/>
                </a:lnTo>
                <a:lnTo>
                  <a:pt x="2361" y="1068"/>
                </a:lnTo>
                <a:lnTo>
                  <a:pt x="1770" y="318"/>
                </a:lnTo>
                <a:lnTo>
                  <a:pt x="1362" y="546"/>
                </a:lnTo>
                <a:lnTo>
                  <a:pt x="1749" y="1384"/>
                </a:lnTo>
                <a:lnTo>
                  <a:pt x="1477" y="1658"/>
                </a:lnTo>
                <a:lnTo>
                  <a:pt x="590" y="1340"/>
                </a:lnTo>
                <a:lnTo>
                  <a:pt x="386" y="1680"/>
                </a:lnTo>
                <a:lnTo>
                  <a:pt x="1066" y="2271"/>
                </a:lnTo>
                <a:lnTo>
                  <a:pt x="954" y="2725"/>
                </a:lnTo>
                <a:lnTo>
                  <a:pt x="21" y="2793"/>
                </a:lnTo>
                <a:lnTo>
                  <a:pt x="0" y="3294"/>
                </a:lnTo>
                <a:lnTo>
                  <a:pt x="954" y="3430"/>
                </a:lnTo>
                <a:lnTo>
                  <a:pt x="1044" y="3859"/>
                </a:lnTo>
                <a:lnTo>
                  <a:pt x="340" y="4497"/>
                </a:lnTo>
                <a:lnTo>
                  <a:pt x="590" y="4883"/>
                </a:lnTo>
                <a:lnTo>
                  <a:pt x="1384" y="4518"/>
                </a:lnTo>
                <a:lnTo>
                  <a:pt x="1681" y="4815"/>
                </a:lnTo>
                <a:lnTo>
                  <a:pt x="1270" y="5563"/>
                </a:lnTo>
                <a:lnTo>
                  <a:pt x="1656" y="5881"/>
                </a:lnTo>
                <a:lnTo>
                  <a:pt x="2361" y="5201"/>
                </a:lnTo>
                <a:lnTo>
                  <a:pt x="2769" y="5337"/>
                </a:lnTo>
                <a:lnTo>
                  <a:pt x="2861" y="6267"/>
                </a:lnTo>
                <a:lnTo>
                  <a:pt x="3473" y="6292"/>
                </a:lnTo>
                <a:lnTo>
                  <a:pt x="3541" y="5315"/>
                </a:lnTo>
                <a:lnTo>
                  <a:pt x="4063" y="5179"/>
                </a:lnTo>
                <a:lnTo>
                  <a:pt x="4678" y="5859"/>
                </a:lnTo>
                <a:lnTo>
                  <a:pt x="5086" y="5609"/>
                </a:lnTo>
                <a:lnTo>
                  <a:pt x="4678" y="4793"/>
                </a:lnTo>
                <a:lnTo>
                  <a:pt x="4950" y="4450"/>
                </a:lnTo>
                <a:lnTo>
                  <a:pt x="5766" y="4837"/>
                </a:lnTo>
                <a:lnTo>
                  <a:pt x="6016" y="4407"/>
                </a:lnTo>
                <a:lnTo>
                  <a:pt x="5268" y="3859"/>
                </a:lnTo>
                <a:lnTo>
                  <a:pt x="5358" y="3383"/>
                </a:lnTo>
                <a:lnTo>
                  <a:pt x="6288" y="3294"/>
                </a:lnTo>
                <a:lnTo>
                  <a:pt x="6267" y="2815"/>
                </a:lnTo>
                <a:lnTo>
                  <a:pt x="5336" y="2679"/>
                </a:lnTo>
                <a:lnTo>
                  <a:pt x="5244" y="2317"/>
                </a:lnTo>
                <a:lnTo>
                  <a:pt x="5995" y="1794"/>
                </a:lnTo>
                <a:lnTo>
                  <a:pt x="5744" y="1362"/>
                </a:lnTo>
                <a:lnTo>
                  <a:pt x="4904" y="1702"/>
                </a:lnTo>
                <a:lnTo>
                  <a:pt x="4632" y="1430"/>
                </a:lnTo>
                <a:lnTo>
                  <a:pt x="5062" y="636"/>
                </a:lnTo>
                <a:lnTo>
                  <a:pt x="4654" y="386"/>
                </a:lnTo>
                <a:lnTo>
                  <a:pt x="3995" y="1044"/>
                </a:lnTo>
                <a:lnTo>
                  <a:pt x="3995" y="1044"/>
                </a:lnTo>
              </a:path>
            </a:pathLst>
          </a:custGeom>
          <a:gradFill rotWithShape="0">
            <a:gsLst>
              <a:gs pos="0">
                <a:srgbClr val="fcfaf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46600" y="487440"/>
            <a:ext cx="2928960" cy="2930400"/>
          </a:xfrm>
          <a:custGeom>
            <a:avLst/>
            <a:gdLst/>
            <a:ahLst/>
            <a:rect l="l" t="t" r="r" b="b"/>
            <a:pathLst>
              <a:path w="8137" h="8141">
                <a:moveTo>
                  <a:pt x="5169" y="1350"/>
                </a:moveTo>
                <a:lnTo>
                  <a:pt x="4521" y="1202"/>
                </a:lnTo>
                <a:lnTo>
                  <a:pt x="4433" y="0"/>
                </a:lnTo>
                <a:lnTo>
                  <a:pt x="3641" y="58"/>
                </a:lnTo>
                <a:lnTo>
                  <a:pt x="3581" y="1202"/>
                </a:lnTo>
                <a:lnTo>
                  <a:pt x="3053" y="1382"/>
                </a:lnTo>
                <a:lnTo>
                  <a:pt x="2290" y="410"/>
                </a:lnTo>
                <a:lnTo>
                  <a:pt x="1762" y="706"/>
                </a:lnTo>
                <a:lnTo>
                  <a:pt x="2262" y="1790"/>
                </a:lnTo>
                <a:lnTo>
                  <a:pt x="1910" y="2145"/>
                </a:lnTo>
                <a:lnTo>
                  <a:pt x="762" y="1734"/>
                </a:lnTo>
                <a:lnTo>
                  <a:pt x="498" y="2174"/>
                </a:lnTo>
                <a:lnTo>
                  <a:pt x="1378" y="2937"/>
                </a:lnTo>
                <a:lnTo>
                  <a:pt x="1234" y="3525"/>
                </a:lnTo>
                <a:lnTo>
                  <a:pt x="27" y="3613"/>
                </a:lnTo>
                <a:lnTo>
                  <a:pt x="0" y="4261"/>
                </a:lnTo>
                <a:lnTo>
                  <a:pt x="1234" y="4437"/>
                </a:lnTo>
                <a:lnTo>
                  <a:pt x="1350" y="4993"/>
                </a:lnTo>
                <a:lnTo>
                  <a:pt x="438" y="5817"/>
                </a:lnTo>
                <a:lnTo>
                  <a:pt x="762" y="6316"/>
                </a:lnTo>
                <a:lnTo>
                  <a:pt x="1790" y="5845"/>
                </a:lnTo>
                <a:lnTo>
                  <a:pt x="2174" y="6228"/>
                </a:lnTo>
                <a:lnTo>
                  <a:pt x="1642" y="7196"/>
                </a:lnTo>
                <a:lnTo>
                  <a:pt x="2142" y="7608"/>
                </a:lnTo>
                <a:lnTo>
                  <a:pt x="3053" y="6728"/>
                </a:lnTo>
                <a:lnTo>
                  <a:pt x="3581" y="6904"/>
                </a:lnTo>
                <a:lnTo>
                  <a:pt x="3701" y="8108"/>
                </a:lnTo>
                <a:lnTo>
                  <a:pt x="4493" y="8140"/>
                </a:lnTo>
                <a:lnTo>
                  <a:pt x="4581" y="6876"/>
                </a:lnTo>
                <a:lnTo>
                  <a:pt x="5257" y="6700"/>
                </a:lnTo>
                <a:lnTo>
                  <a:pt x="6052" y="7580"/>
                </a:lnTo>
                <a:lnTo>
                  <a:pt x="6580" y="7256"/>
                </a:lnTo>
                <a:lnTo>
                  <a:pt x="6052" y="6200"/>
                </a:lnTo>
                <a:lnTo>
                  <a:pt x="6404" y="5757"/>
                </a:lnTo>
                <a:lnTo>
                  <a:pt x="7460" y="6256"/>
                </a:lnTo>
                <a:lnTo>
                  <a:pt x="7784" y="5700"/>
                </a:lnTo>
                <a:lnTo>
                  <a:pt x="6816" y="4993"/>
                </a:lnTo>
                <a:lnTo>
                  <a:pt x="6932" y="4377"/>
                </a:lnTo>
                <a:lnTo>
                  <a:pt x="8136" y="4261"/>
                </a:lnTo>
                <a:lnTo>
                  <a:pt x="8107" y="3641"/>
                </a:lnTo>
                <a:lnTo>
                  <a:pt x="6904" y="3465"/>
                </a:lnTo>
                <a:lnTo>
                  <a:pt x="6784" y="2997"/>
                </a:lnTo>
                <a:lnTo>
                  <a:pt x="7755" y="2321"/>
                </a:lnTo>
                <a:lnTo>
                  <a:pt x="7432" y="1762"/>
                </a:lnTo>
                <a:lnTo>
                  <a:pt x="6344" y="2202"/>
                </a:lnTo>
                <a:lnTo>
                  <a:pt x="5992" y="1850"/>
                </a:lnTo>
                <a:lnTo>
                  <a:pt x="6548" y="822"/>
                </a:lnTo>
                <a:lnTo>
                  <a:pt x="6020" y="498"/>
                </a:lnTo>
                <a:lnTo>
                  <a:pt x="5169" y="1350"/>
                </a:lnTo>
                <a:lnTo>
                  <a:pt x="5169" y="1350"/>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147080" y="2556000"/>
            <a:ext cx="2008080" cy="3997080"/>
          </a:xfrm>
          <a:custGeom>
            <a:avLst/>
            <a:gdLst/>
            <a:ahLst/>
            <a:rect l="l" t="t" r="r" b="b"/>
            <a:pathLst>
              <a:path w="5579" h="11104">
                <a:moveTo>
                  <a:pt x="5578" y="0"/>
                </a:moveTo>
                <a:lnTo>
                  <a:pt x="4973" y="78"/>
                </a:lnTo>
                <a:lnTo>
                  <a:pt x="4894" y="1639"/>
                </a:lnTo>
                <a:lnTo>
                  <a:pt x="4171" y="1886"/>
                </a:lnTo>
                <a:lnTo>
                  <a:pt x="3130" y="559"/>
                </a:lnTo>
                <a:lnTo>
                  <a:pt x="2407" y="964"/>
                </a:lnTo>
                <a:lnTo>
                  <a:pt x="3090" y="2446"/>
                </a:lnTo>
                <a:lnTo>
                  <a:pt x="2609" y="2931"/>
                </a:lnTo>
                <a:lnTo>
                  <a:pt x="1044" y="2367"/>
                </a:lnTo>
                <a:lnTo>
                  <a:pt x="682" y="2971"/>
                </a:lnTo>
                <a:lnTo>
                  <a:pt x="1882" y="4016"/>
                </a:lnTo>
                <a:lnTo>
                  <a:pt x="1688" y="4818"/>
                </a:lnTo>
                <a:lnTo>
                  <a:pt x="38" y="4942"/>
                </a:lnTo>
                <a:lnTo>
                  <a:pt x="0" y="5828"/>
                </a:lnTo>
                <a:lnTo>
                  <a:pt x="1688" y="6066"/>
                </a:lnTo>
                <a:lnTo>
                  <a:pt x="1846" y="6829"/>
                </a:lnTo>
                <a:lnTo>
                  <a:pt x="598" y="7954"/>
                </a:lnTo>
                <a:lnTo>
                  <a:pt x="1044" y="8637"/>
                </a:lnTo>
                <a:lnTo>
                  <a:pt x="2446" y="7994"/>
                </a:lnTo>
                <a:lnTo>
                  <a:pt x="2971" y="8518"/>
                </a:lnTo>
                <a:lnTo>
                  <a:pt x="2243" y="9841"/>
                </a:lnTo>
                <a:lnTo>
                  <a:pt x="2927" y="10406"/>
                </a:lnTo>
                <a:lnTo>
                  <a:pt x="4171" y="9202"/>
                </a:lnTo>
                <a:lnTo>
                  <a:pt x="4894" y="9444"/>
                </a:lnTo>
                <a:lnTo>
                  <a:pt x="5057" y="11089"/>
                </a:lnTo>
                <a:lnTo>
                  <a:pt x="5578" y="11103"/>
                </a:lnTo>
                <a:lnTo>
                  <a:pt x="5578" y="0"/>
                </a:lnTo>
                <a:lnTo>
                  <a:pt x="5578"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0" name="PlaceHolder 2"/>
          <p:cNvSpPr>
            <a:spLocks noGrp="1"/>
          </p:cNvSpPr>
          <p:nvPr>
            <p:ph type="body"/>
          </p:nvPr>
        </p:nvSpPr>
        <p:spPr>
          <a:xfrm>
            <a:off x="1066680" y="1676160"/>
            <a:ext cx="7769520" cy="4111560"/>
          </a:xfrm>
          <a:prstGeom prst="rect">
            <a:avLst/>
          </a:prstGeom>
          <a:noFill/>
          <a:ln w="0">
            <a:noFill/>
          </a:ln>
        </p:spPr>
        <p:txBody>
          <a:bodyPr lIns="90000" rIns="90000" tIns="46800" bIns="46800" anchor="t">
            <a:normAutofit fontScale="99000"/>
          </a:bodyPr>
          <a:p>
            <a:pPr marL="336240" indent="-336240">
              <a:spcBef>
                <a:spcPts val="799"/>
              </a:spcBef>
              <a:buClr>
                <a:srgbClr val="ffff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2240" indent="-279720">
              <a:spcBef>
                <a:spcPts val="799"/>
              </a:spcBef>
              <a:buClr>
                <a:srgbClr val="cc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60033"/>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660033"/>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47" name=""/>
          <p:cNvSpPr/>
          <p:nvPr/>
        </p:nvSpPr>
        <p:spPr>
          <a:xfrm>
            <a:off x="-11160" y="1836720"/>
            <a:ext cx="2270160" cy="2709720"/>
          </a:xfrm>
          <a:custGeom>
            <a:avLst/>
            <a:gdLst/>
            <a:ahLst/>
            <a:rect l="l" t="t" r="r" b="b"/>
            <a:pathLst>
              <a:path w="6306" h="7528">
                <a:moveTo>
                  <a:pt x="3564" y="1247"/>
                </a:moveTo>
                <a:lnTo>
                  <a:pt x="2969" y="1110"/>
                </a:lnTo>
                <a:lnTo>
                  <a:pt x="2885" y="0"/>
                </a:lnTo>
                <a:lnTo>
                  <a:pt x="2153" y="56"/>
                </a:lnTo>
                <a:lnTo>
                  <a:pt x="2099" y="1110"/>
                </a:lnTo>
                <a:lnTo>
                  <a:pt x="1609" y="1277"/>
                </a:lnTo>
                <a:lnTo>
                  <a:pt x="908" y="378"/>
                </a:lnTo>
                <a:lnTo>
                  <a:pt x="419" y="651"/>
                </a:lnTo>
                <a:lnTo>
                  <a:pt x="882" y="1657"/>
                </a:lnTo>
                <a:lnTo>
                  <a:pt x="555" y="1983"/>
                </a:lnTo>
                <a:lnTo>
                  <a:pt x="0" y="1864"/>
                </a:lnTo>
                <a:lnTo>
                  <a:pt x="0" y="5613"/>
                </a:lnTo>
                <a:lnTo>
                  <a:pt x="445" y="5405"/>
                </a:lnTo>
                <a:lnTo>
                  <a:pt x="798" y="5758"/>
                </a:lnTo>
                <a:lnTo>
                  <a:pt x="308" y="6653"/>
                </a:lnTo>
                <a:lnTo>
                  <a:pt x="771" y="7037"/>
                </a:lnTo>
                <a:lnTo>
                  <a:pt x="1609" y="6221"/>
                </a:lnTo>
                <a:lnTo>
                  <a:pt x="2099" y="6384"/>
                </a:lnTo>
                <a:lnTo>
                  <a:pt x="2210" y="7496"/>
                </a:lnTo>
                <a:lnTo>
                  <a:pt x="2942" y="7527"/>
                </a:lnTo>
                <a:lnTo>
                  <a:pt x="3022" y="6358"/>
                </a:lnTo>
                <a:lnTo>
                  <a:pt x="3644" y="6195"/>
                </a:lnTo>
                <a:lnTo>
                  <a:pt x="4381" y="7011"/>
                </a:lnTo>
                <a:lnTo>
                  <a:pt x="4867" y="6711"/>
                </a:lnTo>
                <a:lnTo>
                  <a:pt x="4381" y="5732"/>
                </a:lnTo>
                <a:lnTo>
                  <a:pt x="4708" y="5321"/>
                </a:lnTo>
                <a:lnTo>
                  <a:pt x="5683" y="5785"/>
                </a:lnTo>
                <a:lnTo>
                  <a:pt x="5978" y="5273"/>
                </a:lnTo>
                <a:lnTo>
                  <a:pt x="5087" y="4616"/>
                </a:lnTo>
                <a:lnTo>
                  <a:pt x="5193" y="4047"/>
                </a:lnTo>
                <a:lnTo>
                  <a:pt x="6305" y="3941"/>
                </a:lnTo>
                <a:lnTo>
                  <a:pt x="6278" y="3368"/>
                </a:lnTo>
                <a:lnTo>
                  <a:pt x="5167" y="3205"/>
                </a:lnTo>
                <a:lnTo>
                  <a:pt x="5056" y="2772"/>
                </a:lnTo>
                <a:lnTo>
                  <a:pt x="5952" y="2146"/>
                </a:lnTo>
                <a:lnTo>
                  <a:pt x="5656" y="1630"/>
                </a:lnTo>
                <a:lnTo>
                  <a:pt x="4650" y="2036"/>
                </a:lnTo>
                <a:lnTo>
                  <a:pt x="4324" y="1710"/>
                </a:lnTo>
                <a:lnTo>
                  <a:pt x="4840" y="761"/>
                </a:lnTo>
                <a:lnTo>
                  <a:pt x="4351" y="462"/>
                </a:lnTo>
                <a:lnTo>
                  <a:pt x="3564" y="1247"/>
                </a:lnTo>
                <a:lnTo>
                  <a:pt x="3564" y="1247"/>
                </a:lnTo>
              </a:path>
            </a:pathLst>
          </a:custGeom>
          <a:gradFill rotWithShape="0">
            <a:gsLst>
              <a:gs pos="0">
                <a:srgbClr val="fbf8e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8000" y="15840"/>
            <a:ext cx="838080" cy="787320"/>
          </a:xfrm>
          <a:custGeom>
            <a:avLst/>
            <a:gdLst/>
            <a:ahLst/>
            <a:rect l="l" t="t" r="r" b="b"/>
            <a:pathLst>
              <a:path w="2329" h="2188">
                <a:moveTo>
                  <a:pt x="1476" y="246"/>
                </a:moveTo>
                <a:lnTo>
                  <a:pt x="1291" y="201"/>
                </a:lnTo>
                <a:lnTo>
                  <a:pt x="1269" y="0"/>
                </a:lnTo>
                <a:lnTo>
                  <a:pt x="1048" y="0"/>
                </a:lnTo>
                <a:lnTo>
                  <a:pt x="1022" y="201"/>
                </a:lnTo>
                <a:lnTo>
                  <a:pt x="872" y="254"/>
                </a:lnTo>
                <a:lnTo>
                  <a:pt x="643" y="0"/>
                </a:lnTo>
                <a:lnTo>
                  <a:pt x="501" y="60"/>
                </a:lnTo>
                <a:lnTo>
                  <a:pt x="647" y="369"/>
                </a:lnTo>
                <a:lnTo>
                  <a:pt x="545" y="471"/>
                </a:lnTo>
                <a:lnTo>
                  <a:pt x="219" y="356"/>
                </a:lnTo>
                <a:lnTo>
                  <a:pt x="140" y="479"/>
                </a:lnTo>
                <a:lnTo>
                  <a:pt x="395" y="700"/>
                </a:lnTo>
                <a:lnTo>
                  <a:pt x="351" y="868"/>
                </a:lnTo>
                <a:lnTo>
                  <a:pt x="7" y="890"/>
                </a:lnTo>
                <a:lnTo>
                  <a:pt x="0" y="1075"/>
                </a:lnTo>
                <a:lnTo>
                  <a:pt x="351" y="1128"/>
                </a:lnTo>
                <a:lnTo>
                  <a:pt x="387" y="1287"/>
                </a:lnTo>
                <a:lnTo>
                  <a:pt x="126" y="1520"/>
                </a:lnTo>
                <a:lnTo>
                  <a:pt x="219" y="1666"/>
                </a:lnTo>
                <a:lnTo>
                  <a:pt x="510" y="1529"/>
                </a:lnTo>
                <a:lnTo>
                  <a:pt x="620" y="1640"/>
                </a:lnTo>
                <a:lnTo>
                  <a:pt x="470" y="1917"/>
                </a:lnTo>
                <a:lnTo>
                  <a:pt x="612" y="2037"/>
                </a:lnTo>
                <a:lnTo>
                  <a:pt x="872" y="1781"/>
                </a:lnTo>
                <a:lnTo>
                  <a:pt x="1022" y="1834"/>
                </a:lnTo>
                <a:lnTo>
                  <a:pt x="1057" y="2178"/>
                </a:lnTo>
                <a:lnTo>
                  <a:pt x="1287" y="2187"/>
                </a:lnTo>
                <a:lnTo>
                  <a:pt x="1309" y="1825"/>
                </a:lnTo>
                <a:lnTo>
                  <a:pt x="1503" y="1776"/>
                </a:lnTo>
                <a:lnTo>
                  <a:pt x="1732" y="2028"/>
                </a:lnTo>
                <a:lnTo>
                  <a:pt x="1882" y="1935"/>
                </a:lnTo>
                <a:lnTo>
                  <a:pt x="1732" y="1631"/>
                </a:lnTo>
                <a:lnTo>
                  <a:pt x="1833" y="1503"/>
                </a:lnTo>
                <a:lnTo>
                  <a:pt x="2133" y="1648"/>
                </a:lnTo>
                <a:lnTo>
                  <a:pt x="2226" y="1490"/>
                </a:lnTo>
                <a:lnTo>
                  <a:pt x="1948" y="1287"/>
                </a:lnTo>
                <a:lnTo>
                  <a:pt x="1983" y="1110"/>
                </a:lnTo>
                <a:lnTo>
                  <a:pt x="2328" y="1075"/>
                </a:lnTo>
                <a:lnTo>
                  <a:pt x="2319" y="898"/>
                </a:lnTo>
                <a:lnTo>
                  <a:pt x="1975" y="850"/>
                </a:lnTo>
                <a:lnTo>
                  <a:pt x="1939" y="713"/>
                </a:lnTo>
                <a:lnTo>
                  <a:pt x="2217" y="523"/>
                </a:lnTo>
                <a:lnTo>
                  <a:pt x="2125" y="360"/>
                </a:lnTo>
                <a:lnTo>
                  <a:pt x="1816" y="488"/>
                </a:lnTo>
                <a:lnTo>
                  <a:pt x="1714" y="387"/>
                </a:lnTo>
                <a:lnTo>
                  <a:pt x="1873" y="91"/>
                </a:lnTo>
                <a:lnTo>
                  <a:pt x="1723" y="0"/>
                </a:lnTo>
                <a:lnTo>
                  <a:pt x="1476" y="246"/>
                </a:lnTo>
                <a:lnTo>
                  <a:pt x="1476" y="246"/>
                </a:lnTo>
              </a:path>
            </a:pathLst>
          </a:custGeom>
          <a:gradFill rotWithShape="0">
            <a:gsLst>
              <a:gs pos="0">
                <a:srgbClr val="cac0e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92320" y="353880"/>
            <a:ext cx="2266920" cy="2270160"/>
          </a:xfrm>
          <a:custGeom>
            <a:avLst/>
            <a:gdLst/>
            <a:ahLst/>
            <a:rect l="l" t="t" r="r" b="b"/>
            <a:pathLst>
              <a:path w="6298" h="6307">
                <a:moveTo>
                  <a:pt x="4000" y="1046"/>
                </a:moveTo>
                <a:lnTo>
                  <a:pt x="3499" y="931"/>
                </a:lnTo>
                <a:lnTo>
                  <a:pt x="3431" y="0"/>
                </a:lnTo>
                <a:lnTo>
                  <a:pt x="2818" y="45"/>
                </a:lnTo>
                <a:lnTo>
                  <a:pt x="2772" y="931"/>
                </a:lnTo>
                <a:lnTo>
                  <a:pt x="2363" y="1070"/>
                </a:lnTo>
                <a:lnTo>
                  <a:pt x="1772" y="318"/>
                </a:lnTo>
                <a:lnTo>
                  <a:pt x="1363" y="547"/>
                </a:lnTo>
                <a:lnTo>
                  <a:pt x="1750" y="1386"/>
                </a:lnTo>
                <a:lnTo>
                  <a:pt x="1478" y="1662"/>
                </a:lnTo>
                <a:lnTo>
                  <a:pt x="590" y="1343"/>
                </a:lnTo>
                <a:lnTo>
                  <a:pt x="385" y="1684"/>
                </a:lnTo>
                <a:lnTo>
                  <a:pt x="1066" y="2275"/>
                </a:lnTo>
                <a:lnTo>
                  <a:pt x="955" y="2731"/>
                </a:lnTo>
                <a:lnTo>
                  <a:pt x="20" y="2799"/>
                </a:lnTo>
                <a:lnTo>
                  <a:pt x="0" y="3301"/>
                </a:lnTo>
                <a:lnTo>
                  <a:pt x="955" y="3437"/>
                </a:lnTo>
                <a:lnTo>
                  <a:pt x="1045" y="3868"/>
                </a:lnTo>
                <a:lnTo>
                  <a:pt x="339" y="4506"/>
                </a:lnTo>
                <a:lnTo>
                  <a:pt x="590" y="4893"/>
                </a:lnTo>
                <a:lnTo>
                  <a:pt x="1385" y="4528"/>
                </a:lnTo>
                <a:lnTo>
                  <a:pt x="1682" y="4825"/>
                </a:lnTo>
                <a:lnTo>
                  <a:pt x="1271" y="5575"/>
                </a:lnTo>
                <a:lnTo>
                  <a:pt x="1657" y="5894"/>
                </a:lnTo>
                <a:lnTo>
                  <a:pt x="2363" y="5212"/>
                </a:lnTo>
                <a:lnTo>
                  <a:pt x="2772" y="5348"/>
                </a:lnTo>
                <a:lnTo>
                  <a:pt x="2864" y="6281"/>
                </a:lnTo>
                <a:lnTo>
                  <a:pt x="3477" y="6306"/>
                </a:lnTo>
                <a:lnTo>
                  <a:pt x="3545" y="5327"/>
                </a:lnTo>
                <a:lnTo>
                  <a:pt x="4068" y="5190"/>
                </a:lnTo>
                <a:lnTo>
                  <a:pt x="4684" y="5872"/>
                </a:lnTo>
                <a:lnTo>
                  <a:pt x="5092" y="5621"/>
                </a:lnTo>
                <a:lnTo>
                  <a:pt x="4684" y="4803"/>
                </a:lnTo>
                <a:lnTo>
                  <a:pt x="4956" y="4459"/>
                </a:lnTo>
                <a:lnTo>
                  <a:pt x="5773" y="4847"/>
                </a:lnTo>
                <a:lnTo>
                  <a:pt x="6024" y="4416"/>
                </a:lnTo>
                <a:lnTo>
                  <a:pt x="5275" y="3868"/>
                </a:lnTo>
                <a:lnTo>
                  <a:pt x="5365" y="3391"/>
                </a:lnTo>
                <a:lnTo>
                  <a:pt x="6297" y="3301"/>
                </a:lnTo>
                <a:lnTo>
                  <a:pt x="6275" y="2821"/>
                </a:lnTo>
                <a:lnTo>
                  <a:pt x="5343" y="2684"/>
                </a:lnTo>
                <a:lnTo>
                  <a:pt x="5250" y="2322"/>
                </a:lnTo>
                <a:lnTo>
                  <a:pt x="6002" y="1798"/>
                </a:lnTo>
                <a:lnTo>
                  <a:pt x="5752" y="1365"/>
                </a:lnTo>
                <a:lnTo>
                  <a:pt x="4910" y="1705"/>
                </a:lnTo>
                <a:lnTo>
                  <a:pt x="4638" y="1433"/>
                </a:lnTo>
                <a:lnTo>
                  <a:pt x="5068" y="637"/>
                </a:lnTo>
                <a:lnTo>
                  <a:pt x="4659" y="386"/>
                </a:lnTo>
                <a:lnTo>
                  <a:pt x="4000" y="1046"/>
                </a:lnTo>
                <a:lnTo>
                  <a:pt x="4000" y="1046"/>
                </a:lnTo>
              </a:path>
            </a:pathLst>
          </a:custGeom>
          <a:gradFill rotWithShape="0">
            <a:gsLst>
              <a:gs pos="0">
                <a:srgbClr val="fcfaf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532240" y="1270080"/>
            <a:ext cx="3670200" cy="3671640"/>
          </a:xfrm>
          <a:custGeom>
            <a:avLst/>
            <a:gdLst/>
            <a:ahLst/>
            <a:rect l="l" t="t" r="r" b="b"/>
            <a:pathLst>
              <a:path w="10196" h="10200">
                <a:moveTo>
                  <a:pt x="6477" y="1692"/>
                </a:moveTo>
                <a:lnTo>
                  <a:pt x="5665" y="1507"/>
                </a:lnTo>
                <a:lnTo>
                  <a:pt x="5555" y="0"/>
                </a:lnTo>
                <a:lnTo>
                  <a:pt x="4563" y="73"/>
                </a:lnTo>
                <a:lnTo>
                  <a:pt x="4488" y="1507"/>
                </a:lnTo>
                <a:lnTo>
                  <a:pt x="3826" y="1732"/>
                </a:lnTo>
                <a:lnTo>
                  <a:pt x="2869" y="514"/>
                </a:lnTo>
                <a:lnTo>
                  <a:pt x="2208" y="885"/>
                </a:lnTo>
                <a:lnTo>
                  <a:pt x="2834" y="2243"/>
                </a:lnTo>
                <a:lnTo>
                  <a:pt x="2393" y="2689"/>
                </a:lnTo>
                <a:lnTo>
                  <a:pt x="955" y="2173"/>
                </a:lnTo>
                <a:lnTo>
                  <a:pt x="625" y="2724"/>
                </a:lnTo>
                <a:lnTo>
                  <a:pt x="1727" y="3681"/>
                </a:lnTo>
                <a:lnTo>
                  <a:pt x="1546" y="4417"/>
                </a:lnTo>
                <a:lnTo>
                  <a:pt x="34" y="4527"/>
                </a:lnTo>
                <a:lnTo>
                  <a:pt x="0" y="5339"/>
                </a:lnTo>
                <a:lnTo>
                  <a:pt x="1546" y="5559"/>
                </a:lnTo>
                <a:lnTo>
                  <a:pt x="1692" y="6256"/>
                </a:lnTo>
                <a:lnTo>
                  <a:pt x="550" y="7288"/>
                </a:lnTo>
                <a:lnTo>
                  <a:pt x="955" y="7914"/>
                </a:lnTo>
                <a:lnTo>
                  <a:pt x="2243" y="7323"/>
                </a:lnTo>
                <a:lnTo>
                  <a:pt x="2724" y="7804"/>
                </a:lnTo>
                <a:lnTo>
                  <a:pt x="2058" y="9017"/>
                </a:lnTo>
                <a:lnTo>
                  <a:pt x="2684" y="9533"/>
                </a:lnTo>
                <a:lnTo>
                  <a:pt x="3826" y="8430"/>
                </a:lnTo>
                <a:lnTo>
                  <a:pt x="4488" y="8651"/>
                </a:lnTo>
                <a:lnTo>
                  <a:pt x="4638" y="10159"/>
                </a:lnTo>
                <a:lnTo>
                  <a:pt x="5630" y="10199"/>
                </a:lnTo>
                <a:lnTo>
                  <a:pt x="5740" y="8615"/>
                </a:lnTo>
                <a:lnTo>
                  <a:pt x="6587" y="8395"/>
                </a:lnTo>
                <a:lnTo>
                  <a:pt x="7584" y="9497"/>
                </a:lnTo>
                <a:lnTo>
                  <a:pt x="8245" y="9092"/>
                </a:lnTo>
                <a:lnTo>
                  <a:pt x="7584" y="7769"/>
                </a:lnTo>
                <a:lnTo>
                  <a:pt x="8025" y="7213"/>
                </a:lnTo>
                <a:lnTo>
                  <a:pt x="9348" y="7839"/>
                </a:lnTo>
                <a:lnTo>
                  <a:pt x="9753" y="7142"/>
                </a:lnTo>
                <a:lnTo>
                  <a:pt x="8541" y="6256"/>
                </a:lnTo>
                <a:lnTo>
                  <a:pt x="8686" y="5484"/>
                </a:lnTo>
                <a:lnTo>
                  <a:pt x="10195" y="5339"/>
                </a:lnTo>
                <a:lnTo>
                  <a:pt x="10159" y="4563"/>
                </a:lnTo>
                <a:lnTo>
                  <a:pt x="8651" y="4342"/>
                </a:lnTo>
                <a:lnTo>
                  <a:pt x="8501" y="3756"/>
                </a:lnTo>
                <a:lnTo>
                  <a:pt x="9718" y="2909"/>
                </a:lnTo>
                <a:lnTo>
                  <a:pt x="9312" y="2208"/>
                </a:lnTo>
                <a:lnTo>
                  <a:pt x="7950" y="2759"/>
                </a:lnTo>
                <a:lnTo>
                  <a:pt x="7509" y="2318"/>
                </a:lnTo>
                <a:lnTo>
                  <a:pt x="8206" y="1030"/>
                </a:lnTo>
                <a:lnTo>
                  <a:pt x="7544" y="625"/>
                </a:lnTo>
                <a:lnTo>
                  <a:pt x="6477" y="1692"/>
                </a:lnTo>
                <a:lnTo>
                  <a:pt x="6477" y="1692"/>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240" y="4797360"/>
            <a:ext cx="3417840" cy="2097000"/>
          </a:xfrm>
          <a:custGeom>
            <a:avLst/>
            <a:gdLst/>
            <a:ahLst/>
            <a:rect l="l" t="t" r="r" b="b"/>
            <a:pathLst>
              <a:path w="9495" h="5826">
                <a:moveTo>
                  <a:pt x="6032" y="1577"/>
                </a:moveTo>
                <a:lnTo>
                  <a:pt x="5277" y="1401"/>
                </a:lnTo>
                <a:lnTo>
                  <a:pt x="5172" y="0"/>
                </a:lnTo>
                <a:lnTo>
                  <a:pt x="4250" y="69"/>
                </a:lnTo>
                <a:lnTo>
                  <a:pt x="4179" y="1401"/>
                </a:lnTo>
                <a:lnTo>
                  <a:pt x="3562" y="1613"/>
                </a:lnTo>
                <a:lnTo>
                  <a:pt x="2671" y="479"/>
                </a:lnTo>
                <a:lnTo>
                  <a:pt x="2058" y="823"/>
                </a:lnTo>
                <a:lnTo>
                  <a:pt x="2640" y="2089"/>
                </a:lnTo>
                <a:lnTo>
                  <a:pt x="2230" y="2504"/>
                </a:lnTo>
                <a:lnTo>
                  <a:pt x="889" y="2023"/>
                </a:lnTo>
                <a:lnTo>
                  <a:pt x="581" y="2539"/>
                </a:lnTo>
                <a:lnTo>
                  <a:pt x="1608" y="3430"/>
                </a:lnTo>
                <a:lnTo>
                  <a:pt x="1441" y="4113"/>
                </a:lnTo>
                <a:lnTo>
                  <a:pt x="29" y="4215"/>
                </a:lnTo>
                <a:lnTo>
                  <a:pt x="0" y="4973"/>
                </a:lnTo>
                <a:lnTo>
                  <a:pt x="1441" y="5176"/>
                </a:lnTo>
                <a:lnTo>
                  <a:pt x="1577" y="5825"/>
                </a:lnTo>
                <a:lnTo>
                  <a:pt x="7954" y="5825"/>
                </a:lnTo>
                <a:lnTo>
                  <a:pt x="8091" y="5106"/>
                </a:lnTo>
                <a:lnTo>
                  <a:pt x="9494" y="4973"/>
                </a:lnTo>
                <a:lnTo>
                  <a:pt x="9463" y="4250"/>
                </a:lnTo>
                <a:lnTo>
                  <a:pt x="8056" y="4043"/>
                </a:lnTo>
                <a:lnTo>
                  <a:pt x="7915" y="3496"/>
                </a:lnTo>
                <a:lnTo>
                  <a:pt x="9048" y="2711"/>
                </a:lnTo>
                <a:lnTo>
                  <a:pt x="8673" y="2058"/>
                </a:lnTo>
                <a:lnTo>
                  <a:pt x="7403" y="2570"/>
                </a:lnTo>
                <a:lnTo>
                  <a:pt x="6993" y="2160"/>
                </a:lnTo>
                <a:lnTo>
                  <a:pt x="7641" y="960"/>
                </a:lnTo>
                <a:lnTo>
                  <a:pt x="7024" y="581"/>
                </a:lnTo>
                <a:lnTo>
                  <a:pt x="6032" y="1577"/>
                </a:lnTo>
                <a:lnTo>
                  <a:pt x="6032" y="1577"/>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94240" y="4425840"/>
            <a:ext cx="2263680" cy="2265480"/>
          </a:xfrm>
          <a:custGeom>
            <a:avLst/>
            <a:gdLst/>
            <a:ahLst/>
            <a:rect l="l" t="t" r="r" b="b"/>
            <a:pathLst>
              <a:path w="6289" h="6293">
                <a:moveTo>
                  <a:pt x="3995" y="1044"/>
                </a:moveTo>
                <a:lnTo>
                  <a:pt x="3495" y="930"/>
                </a:lnTo>
                <a:lnTo>
                  <a:pt x="3427" y="0"/>
                </a:lnTo>
                <a:lnTo>
                  <a:pt x="2815" y="46"/>
                </a:lnTo>
                <a:lnTo>
                  <a:pt x="2769" y="930"/>
                </a:lnTo>
                <a:lnTo>
                  <a:pt x="2361" y="1068"/>
                </a:lnTo>
                <a:lnTo>
                  <a:pt x="1770" y="318"/>
                </a:lnTo>
                <a:lnTo>
                  <a:pt x="1362" y="546"/>
                </a:lnTo>
                <a:lnTo>
                  <a:pt x="1749" y="1384"/>
                </a:lnTo>
                <a:lnTo>
                  <a:pt x="1477" y="1658"/>
                </a:lnTo>
                <a:lnTo>
                  <a:pt x="590" y="1340"/>
                </a:lnTo>
                <a:lnTo>
                  <a:pt x="386" y="1680"/>
                </a:lnTo>
                <a:lnTo>
                  <a:pt x="1066" y="2271"/>
                </a:lnTo>
                <a:lnTo>
                  <a:pt x="954" y="2725"/>
                </a:lnTo>
                <a:lnTo>
                  <a:pt x="21" y="2793"/>
                </a:lnTo>
                <a:lnTo>
                  <a:pt x="0" y="3294"/>
                </a:lnTo>
                <a:lnTo>
                  <a:pt x="954" y="3430"/>
                </a:lnTo>
                <a:lnTo>
                  <a:pt x="1044" y="3859"/>
                </a:lnTo>
                <a:lnTo>
                  <a:pt x="340" y="4497"/>
                </a:lnTo>
                <a:lnTo>
                  <a:pt x="590" y="4883"/>
                </a:lnTo>
                <a:lnTo>
                  <a:pt x="1384" y="4518"/>
                </a:lnTo>
                <a:lnTo>
                  <a:pt x="1681" y="4815"/>
                </a:lnTo>
                <a:lnTo>
                  <a:pt x="1270" y="5563"/>
                </a:lnTo>
                <a:lnTo>
                  <a:pt x="1656" y="5881"/>
                </a:lnTo>
                <a:lnTo>
                  <a:pt x="2361" y="5201"/>
                </a:lnTo>
                <a:lnTo>
                  <a:pt x="2769" y="5337"/>
                </a:lnTo>
                <a:lnTo>
                  <a:pt x="2861" y="6267"/>
                </a:lnTo>
                <a:lnTo>
                  <a:pt x="3473" y="6292"/>
                </a:lnTo>
                <a:lnTo>
                  <a:pt x="3541" y="5315"/>
                </a:lnTo>
                <a:lnTo>
                  <a:pt x="4063" y="5179"/>
                </a:lnTo>
                <a:lnTo>
                  <a:pt x="4678" y="5859"/>
                </a:lnTo>
                <a:lnTo>
                  <a:pt x="5086" y="5609"/>
                </a:lnTo>
                <a:lnTo>
                  <a:pt x="4678" y="4793"/>
                </a:lnTo>
                <a:lnTo>
                  <a:pt x="4950" y="4450"/>
                </a:lnTo>
                <a:lnTo>
                  <a:pt x="5766" y="4837"/>
                </a:lnTo>
                <a:lnTo>
                  <a:pt x="6016" y="4407"/>
                </a:lnTo>
                <a:lnTo>
                  <a:pt x="5268" y="3859"/>
                </a:lnTo>
                <a:lnTo>
                  <a:pt x="5358" y="3383"/>
                </a:lnTo>
                <a:lnTo>
                  <a:pt x="6288" y="3294"/>
                </a:lnTo>
                <a:lnTo>
                  <a:pt x="6267" y="2815"/>
                </a:lnTo>
                <a:lnTo>
                  <a:pt x="5336" y="2679"/>
                </a:lnTo>
                <a:lnTo>
                  <a:pt x="5244" y="2317"/>
                </a:lnTo>
                <a:lnTo>
                  <a:pt x="5995" y="1794"/>
                </a:lnTo>
                <a:lnTo>
                  <a:pt x="5744" y="1362"/>
                </a:lnTo>
                <a:lnTo>
                  <a:pt x="4904" y="1702"/>
                </a:lnTo>
                <a:lnTo>
                  <a:pt x="4632" y="1430"/>
                </a:lnTo>
                <a:lnTo>
                  <a:pt x="5062" y="636"/>
                </a:lnTo>
                <a:lnTo>
                  <a:pt x="4654" y="386"/>
                </a:lnTo>
                <a:lnTo>
                  <a:pt x="3995" y="1044"/>
                </a:lnTo>
                <a:lnTo>
                  <a:pt x="3995" y="1044"/>
                </a:lnTo>
              </a:path>
            </a:pathLst>
          </a:custGeom>
          <a:gradFill rotWithShape="0">
            <a:gsLst>
              <a:gs pos="0">
                <a:srgbClr val="fcfaf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646600" y="487440"/>
            <a:ext cx="2928960" cy="2930400"/>
          </a:xfrm>
          <a:custGeom>
            <a:avLst/>
            <a:gdLst/>
            <a:ahLst/>
            <a:rect l="l" t="t" r="r" b="b"/>
            <a:pathLst>
              <a:path w="8137" h="8141">
                <a:moveTo>
                  <a:pt x="5169" y="1350"/>
                </a:moveTo>
                <a:lnTo>
                  <a:pt x="4521" y="1202"/>
                </a:lnTo>
                <a:lnTo>
                  <a:pt x="4433" y="0"/>
                </a:lnTo>
                <a:lnTo>
                  <a:pt x="3641" y="58"/>
                </a:lnTo>
                <a:lnTo>
                  <a:pt x="3581" y="1202"/>
                </a:lnTo>
                <a:lnTo>
                  <a:pt x="3053" y="1382"/>
                </a:lnTo>
                <a:lnTo>
                  <a:pt x="2290" y="410"/>
                </a:lnTo>
                <a:lnTo>
                  <a:pt x="1762" y="706"/>
                </a:lnTo>
                <a:lnTo>
                  <a:pt x="2262" y="1790"/>
                </a:lnTo>
                <a:lnTo>
                  <a:pt x="1910" y="2145"/>
                </a:lnTo>
                <a:lnTo>
                  <a:pt x="762" y="1734"/>
                </a:lnTo>
                <a:lnTo>
                  <a:pt x="498" y="2174"/>
                </a:lnTo>
                <a:lnTo>
                  <a:pt x="1378" y="2937"/>
                </a:lnTo>
                <a:lnTo>
                  <a:pt x="1234" y="3525"/>
                </a:lnTo>
                <a:lnTo>
                  <a:pt x="27" y="3613"/>
                </a:lnTo>
                <a:lnTo>
                  <a:pt x="0" y="4261"/>
                </a:lnTo>
                <a:lnTo>
                  <a:pt x="1234" y="4437"/>
                </a:lnTo>
                <a:lnTo>
                  <a:pt x="1350" y="4993"/>
                </a:lnTo>
                <a:lnTo>
                  <a:pt x="438" y="5817"/>
                </a:lnTo>
                <a:lnTo>
                  <a:pt x="762" y="6316"/>
                </a:lnTo>
                <a:lnTo>
                  <a:pt x="1790" y="5845"/>
                </a:lnTo>
                <a:lnTo>
                  <a:pt x="2174" y="6228"/>
                </a:lnTo>
                <a:lnTo>
                  <a:pt x="1642" y="7196"/>
                </a:lnTo>
                <a:lnTo>
                  <a:pt x="2142" y="7608"/>
                </a:lnTo>
                <a:lnTo>
                  <a:pt x="3053" y="6728"/>
                </a:lnTo>
                <a:lnTo>
                  <a:pt x="3581" y="6904"/>
                </a:lnTo>
                <a:lnTo>
                  <a:pt x="3701" y="8108"/>
                </a:lnTo>
                <a:lnTo>
                  <a:pt x="4493" y="8140"/>
                </a:lnTo>
                <a:lnTo>
                  <a:pt x="4581" y="6876"/>
                </a:lnTo>
                <a:lnTo>
                  <a:pt x="5257" y="6700"/>
                </a:lnTo>
                <a:lnTo>
                  <a:pt x="6052" y="7580"/>
                </a:lnTo>
                <a:lnTo>
                  <a:pt x="6580" y="7256"/>
                </a:lnTo>
                <a:lnTo>
                  <a:pt x="6052" y="6200"/>
                </a:lnTo>
                <a:lnTo>
                  <a:pt x="6404" y="5757"/>
                </a:lnTo>
                <a:lnTo>
                  <a:pt x="7460" y="6256"/>
                </a:lnTo>
                <a:lnTo>
                  <a:pt x="7784" y="5700"/>
                </a:lnTo>
                <a:lnTo>
                  <a:pt x="6816" y="4993"/>
                </a:lnTo>
                <a:lnTo>
                  <a:pt x="6932" y="4377"/>
                </a:lnTo>
                <a:lnTo>
                  <a:pt x="8136" y="4261"/>
                </a:lnTo>
                <a:lnTo>
                  <a:pt x="8107" y="3641"/>
                </a:lnTo>
                <a:lnTo>
                  <a:pt x="6904" y="3465"/>
                </a:lnTo>
                <a:lnTo>
                  <a:pt x="6784" y="2997"/>
                </a:lnTo>
                <a:lnTo>
                  <a:pt x="7755" y="2321"/>
                </a:lnTo>
                <a:lnTo>
                  <a:pt x="7432" y="1762"/>
                </a:lnTo>
                <a:lnTo>
                  <a:pt x="6344" y="2202"/>
                </a:lnTo>
                <a:lnTo>
                  <a:pt x="5992" y="1850"/>
                </a:lnTo>
                <a:lnTo>
                  <a:pt x="6548" y="822"/>
                </a:lnTo>
                <a:lnTo>
                  <a:pt x="6020" y="498"/>
                </a:lnTo>
                <a:lnTo>
                  <a:pt x="5169" y="1350"/>
                </a:lnTo>
                <a:lnTo>
                  <a:pt x="5169" y="1350"/>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47080" y="2556000"/>
            <a:ext cx="2008080" cy="3997080"/>
          </a:xfrm>
          <a:custGeom>
            <a:avLst/>
            <a:gdLst/>
            <a:ahLst/>
            <a:rect l="l" t="t" r="r" b="b"/>
            <a:pathLst>
              <a:path w="5579" h="11104">
                <a:moveTo>
                  <a:pt x="5578" y="0"/>
                </a:moveTo>
                <a:lnTo>
                  <a:pt x="4973" y="78"/>
                </a:lnTo>
                <a:lnTo>
                  <a:pt x="4894" y="1639"/>
                </a:lnTo>
                <a:lnTo>
                  <a:pt x="4171" y="1886"/>
                </a:lnTo>
                <a:lnTo>
                  <a:pt x="3130" y="559"/>
                </a:lnTo>
                <a:lnTo>
                  <a:pt x="2407" y="964"/>
                </a:lnTo>
                <a:lnTo>
                  <a:pt x="3090" y="2446"/>
                </a:lnTo>
                <a:lnTo>
                  <a:pt x="2609" y="2931"/>
                </a:lnTo>
                <a:lnTo>
                  <a:pt x="1044" y="2367"/>
                </a:lnTo>
                <a:lnTo>
                  <a:pt x="682" y="2971"/>
                </a:lnTo>
                <a:lnTo>
                  <a:pt x="1882" y="4016"/>
                </a:lnTo>
                <a:lnTo>
                  <a:pt x="1688" y="4818"/>
                </a:lnTo>
                <a:lnTo>
                  <a:pt x="38" y="4942"/>
                </a:lnTo>
                <a:lnTo>
                  <a:pt x="0" y="5828"/>
                </a:lnTo>
                <a:lnTo>
                  <a:pt x="1688" y="6066"/>
                </a:lnTo>
                <a:lnTo>
                  <a:pt x="1846" y="6829"/>
                </a:lnTo>
                <a:lnTo>
                  <a:pt x="598" y="7954"/>
                </a:lnTo>
                <a:lnTo>
                  <a:pt x="1044" y="8637"/>
                </a:lnTo>
                <a:lnTo>
                  <a:pt x="2446" y="7994"/>
                </a:lnTo>
                <a:lnTo>
                  <a:pt x="2971" y="8518"/>
                </a:lnTo>
                <a:lnTo>
                  <a:pt x="2243" y="9841"/>
                </a:lnTo>
                <a:lnTo>
                  <a:pt x="2927" y="10406"/>
                </a:lnTo>
                <a:lnTo>
                  <a:pt x="4171" y="9202"/>
                </a:lnTo>
                <a:lnTo>
                  <a:pt x="4894" y="9444"/>
                </a:lnTo>
                <a:lnTo>
                  <a:pt x="5057" y="11089"/>
                </a:lnTo>
                <a:lnTo>
                  <a:pt x="5578" y="11103"/>
                </a:lnTo>
                <a:lnTo>
                  <a:pt x="5578" y="0"/>
                </a:lnTo>
                <a:lnTo>
                  <a:pt x="5578"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0"/>
            <a:ext cx="3429000" cy="1724040"/>
          </a:xfrm>
          <a:custGeom>
            <a:avLst/>
            <a:gdLst/>
            <a:ahLst/>
            <a:rect l="l" t="t" r="r" b="b"/>
            <a:pathLst>
              <a:path w="9526" h="4789">
                <a:moveTo>
                  <a:pt x="0" y="0"/>
                </a:moveTo>
                <a:lnTo>
                  <a:pt x="67" y="519"/>
                </a:lnTo>
                <a:lnTo>
                  <a:pt x="1406" y="587"/>
                </a:lnTo>
                <a:lnTo>
                  <a:pt x="1618" y="1207"/>
                </a:lnTo>
                <a:lnTo>
                  <a:pt x="479" y="2101"/>
                </a:lnTo>
                <a:lnTo>
                  <a:pt x="827" y="2722"/>
                </a:lnTo>
                <a:lnTo>
                  <a:pt x="2098" y="2135"/>
                </a:lnTo>
                <a:lnTo>
                  <a:pt x="2514" y="2548"/>
                </a:lnTo>
                <a:lnTo>
                  <a:pt x="2030" y="3892"/>
                </a:lnTo>
                <a:lnTo>
                  <a:pt x="2548" y="4202"/>
                </a:lnTo>
                <a:lnTo>
                  <a:pt x="3445" y="3172"/>
                </a:lnTo>
                <a:lnTo>
                  <a:pt x="4133" y="3339"/>
                </a:lnTo>
                <a:lnTo>
                  <a:pt x="4239" y="4754"/>
                </a:lnTo>
                <a:lnTo>
                  <a:pt x="5000" y="4788"/>
                </a:lnTo>
                <a:lnTo>
                  <a:pt x="5204" y="3339"/>
                </a:lnTo>
                <a:lnTo>
                  <a:pt x="5859" y="3203"/>
                </a:lnTo>
                <a:lnTo>
                  <a:pt x="6823" y="4274"/>
                </a:lnTo>
                <a:lnTo>
                  <a:pt x="7410" y="3892"/>
                </a:lnTo>
                <a:lnTo>
                  <a:pt x="6857" y="2688"/>
                </a:lnTo>
                <a:lnTo>
                  <a:pt x="7308" y="2237"/>
                </a:lnTo>
                <a:lnTo>
                  <a:pt x="8443" y="2862"/>
                </a:lnTo>
                <a:lnTo>
                  <a:pt x="8927" y="2275"/>
                </a:lnTo>
                <a:lnTo>
                  <a:pt x="7894" y="1207"/>
                </a:lnTo>
                <a:lnTo>
                  <a:pt x="8102" y="587"/>
                </a:lnTo>
                <a:lnTo>
                  <a:pt x="9513" y="447"/>
                </a:lnTo>
                <a:lnTo>
                  <a:pt x="9525" y="0"/>
                </a:lnTo>
                <a:lnTo>
                  <a:pt x="0" y="0"/>
                </a:lnTo>
                <a:lnTo>
                  <a:pt x="0"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3240" y="-3240"/>
            <a:ext cx="803160" cy="6858000"/>
          </a:xfrm>
          <a:prstGeom prst="rect">
            <a:avLst/>
          </a:prstGeom>
          <a:ln w="0">
            <a:noFill/>
          </a:ln>
        </p:spPr>
      </p:pic>
      <p:sp>
        <p:nvSpPr>
          <p:cNvPr id="57" name="PlaceHolder 1"/>
          <p:cNvSpPr>
            <a:spLocks noGrp="1"/>
          </p:cNvSpPr>
          <p:nvPr>
            <p:ph type="title"/>
          </p:nvPr>
        </p:nvSpPr>
        <p:spPr>
          <a:xfrm>
            <a:off x="1142640" y="2039760"/>
            <a:ext cx="776916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8" name="PlaceHolder 2"/>
          <p:cNvSpPr>
            <a:spLocks noGrp="1"/>
          </p:cNvSpPr>
          <p:nvPr>
            <p:ph type="body"/>
          </p:nvPr>
        </p:nvSpPr>
        <p:spPr>
          <a:xfrm>
            <a:off x="671040" y="1906560"/>
            <a:ext cx="7805880" cy="4316400"/>
          </a:xfrm>
          <a:prstGeom prst="rect">
            <a:avLst/>
          </a:prstGeom>
          <a:noFill/>
          <a:ln w="0">
            <a:noFill/>
          </a:ln>
        </p:spPr>
        <p:txBody>
          <a:bodyPr lIns="0" rIns="0" tIns="0" bIns="0" anchor="t">
            <a:normAutofit/>
          </a:bodyPr>
          <a:p>
            <a:pPr marL="339840" indent="-339840">
              <a:spcBef>
                <a:spcPts val="799"/>
              </a:spcBef>
              <a:buClr>
                <a:srgbClr val="ffff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cc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33"/>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754280"/>
            <a:ext cx="7772400" cy="2055600"/>
          </a:xfrm>
          <a:prstGeom prst="rect">
            <a:avLst/>
          </a:prstGeom>
          <a:noFill/>
          <a:ln w="0">
            <a:noFill/>
          </a:ln>
        </p:spPr>
        <p:txBody>
          <a:bodyPr lIns="90000" rIns="90000" tIns="46800" bIns="46800" anchor="b">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993300"/>
                </a:solidFill>
                <a:latin typeface="Arial"/>
              </a:rPr>
              <a:t>Proceso y metodología para la definición de la Arquitectura</a:t>
            </a:r>
            <a:endParaRPr b="0" lang="en-US" sz="4400" spc="-1" strike="noStrike">
              <a:solidFill>
                <a:srgbClr val="993300"/>
              </a:solidFill>
              <a:latin typeface="Arial"/>
            </a:endParaRPr>
          </a:p>
        </p:txBody>
      </p:sp>
      <p:sp>
        <p:nvSpPr>
          <p:cNvPr id="96" name="PlaceHolder 2"/>
          <p:cNvSpPr>
            <a:spLocks noGrp="1"/>
          </p:cNvSpPr>
          <p:nvPr>
            <p:ph type="subTitle"/>
          </p:nvPr>
        </p:nvSpPr>
        <p:spPr>
          <a:xfrm>
            <a:off x="2133720" y="4724280"/>
            <a:ext cx="6400800" cy="990720"/>
          </a:xfrm>
          <a:prstGeom prst="rect">
            <a:avLst/>
          </a:prstGeom>
          <a:noFill/>
          <a:ln w="0">
            <a:noFill/>
          </a:ln>
        </p:spPr>
        <p:txBody>
          <a:bodyPr lIns="90000" rIns="90000" tIns="46800" bIns="46800" anchor="t">
            <a:noAutofit/>
          </a:bodyPr>
          <a:p>
            <a:pPr indent="0" algn="r">
              <a:lnSpc>
                <a:spcPct val="93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Proyecto de Ingeniería de Software</a:t>
            </a:r>
            <a:endParaRPr b="0" lang="en-US" sz="2400" spc="-1" strike="noStrike">
              <a:solidFill>
                <a:srgbClr val="000000"/>
              </a:solidFill>
              <a:latin typeface="Arial"/>
            </a:endParaRPr>
          </a:p>
          <a:p>
            <a:pPr indent="0" algn="r">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Curso 2006</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etodología definición de la Arquitectura</a:t>
            </a:r>
            <a:endParaRPr b="0" lang="en-US" sz="3200" spc="-1" strike="noStrike">
              <a:solidFill>
                <a:srgbClr val="993300"/>
              </a:solidFill>
              <a:latin typeface="Arial"/>
            </a:endParaRPr>
          </a:p>
        </p:txBody>
      </p:sp>
      <p:sp>
        <p:nvSpPr>
          <p:cNvPr id="148"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la vista Lógica o corte del Modelo de Diseño, se debe presentar el diagrama de subsistemas del sistema que muestra la modularización realizada para el mismo</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Los CU relevantes deben ejercitar todos los componentes definidos, en la ejecución de alguno de sus escenarios.</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Se debe mostrar en diagramas de secuencia, la realización de cada uno de los CU relevantes según los subsistemas definidos, esto es el flujo de interacción entre subsistemas para la ejecución del CU</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etodología definición de la Arquitectura</a:t>
            </a:r>
            <a:endParaRPr b="0" lang="en-US" sz="3200" spc="-1" strike="noStrike">
              <a:solidFill>
                <a:srgbClr val="993300"/>
              </a:solidFill>
              <a:latin typeface="Arial"/>
            </a:endParaRPr>
          </a:p>
        </p:txBody>
      </p:sp>
      <p:sp>
        <p:nvSpPr>
          <p:cNvPr id="150"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la vista de procesos o corte del Modelo de Diseño se identifican y definen los threads de control y procesos para la ejecución del sw definido en la vista lógica</a:t>
            </a:r>
            <a:endParaRPr b="0" lang="en-US" sz="2600" spc="-1" strike="noStrike">
              <a:solidFill>
                <a:srgbClr val="000000"/>
              </a:solidFill>
              <a:latin typeface="Arial"/>
            </a:endParaRPr>
          </a:p>
          <a:p>
            <a:pPr lvl="1" marL="7398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la vista de implementación se presenta la trazabilidad del diseño a la implementación, mostrando que componentes se implementarán correspondiendo a que elementos del diseño</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la vista de distribución se identifican los nodos (hardware) y sus conexiones, infraestructura en la cual ejecutará el sistema, indicando en que nodo correrá cada componente</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etodología definición de la Arquitectura</a:t>
            </a:r>
            <a:endParaRPr b="0" lang="en-US" sz="3200" spc="-1" strike="noStrike">
              <a:solidFill>
                <a:srgbClr val="993300"/>
              </a:solidFill>
              <a:latin typeface="Arial"/>
            </a:endParaRPr>
          </a:p>
        </p:txBody>
      </p:sp>
      <p:sp>
        <p:nvSpPr>
          <p:cNvPr id="152"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la vista de datos se presenta la información de la persistencia del sistema, indicando esquema de datos definidos, tablas, claves, etc.</a:t>
            </a:r>
            <a:endParaRPr b="0" lang="en-US" sz="2600" spc="-1" strike="noStrike">
              <a:solidFill>
                <a:srgbClr val="000000"/>
              </a:solidFill>
              <a:latin typeface="Arial"/>
            </a:endParaRPr>
          </a:p>
          <a:p>
            <a:pPr lvl="1" marL="7398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n el resto de las vistas se agrega la información correspondiente a los atributos de tamaño y performance indicados y de calidad, de los atributos que sea necesario</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Toda otra información que se considere relevante se puede agregar agregando vistas o secciones al documento donde mencionar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lación Arquitectura - Alcance</a:t>
            </a:r>
            <a:endParaRPr b="0" lang="en-US" sz="3200" spc="-1" strike="noStrike">
              <a:solidFill>
                <a:srgbClr val="993300"/>
              </a:solidFill>
              <a:latin typeface="Arial"/>
            </a:endParaRPr>
          </a:p>
        </p:txBody>
      </p:sp>
      <p:sp>
        <p:nvSpPr>
          <p:cNvPr id="154"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l Alcance determina que CU componen el sistema según lo acordado con el cliente. Los requerimientos en general podrán plantear más CU de los incluidos en el Alcance. </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Los primeros CU del Alcance corresponden a los CU relevantes a la Arquitectura, según la definición vista, y se implementarán en la Fase de Elaboración.</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Puede ser necesario implementar otros CU en la Fase de Elaboración que no sean relevantes a la Arquitectura pero que la soportan (no ABMs para contar con los datos, eso se puede tener sin implementar los CU)</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lación Arquitectura - Alcance</a:t>
            </a:r>
            <a:endParaRPr b="0" lang="en-US" sz="3200" spc="-1" strike="noStrike">
              <a:solidFill>
                <a:srgbClr val="993300"/>
              </a:solidFill>
              <a:latin typeface="Arial"/>
            </a:endParaRPr>
          </a:p>
        </p:txBody>
      </p:sp>
      <p:sp>
        <p:nvSpPr>
          <p:cNvPr id="156"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fontScale="97000"/>
          </a:bodyPr>
          <a:p>
            <a:pPr marL="329400" indent="-32940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Al terminar la Fase Inicial se debe acordar con el cliente un Alcance preliminar así como el orden de implementación y liberación de ejecutables, esto es que CU se implementará en que semana y se liberará como parte del ejecutable de que iteración en que Fase. </a:t>
            </a:r>
            <a:endParaRPr b="0" lang="en-US" sz="2600" spc="-1" strike="noStrike">
              <a:solidFill>
                <a:srgbClr val="000000"/>
              </a:solidFill>
              <a:latin typeface="Arial"/>
            </a:endParaRPr>
          </a:p>
          <a:p>
            <a:pPr marL="3294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29400" indent="-32940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Al terminar la Fase de Elaboración, se va a contar con información más realista para confirmar o no el Alcance definido, y hacer con el cliente las negociaciones que correspondan</a:t>
            </a:r>
            <a:endParaRPr b="0" lang="en-US" sz="2600" spc="-1" strike="noStrike">
              <a:solidFill>
                <a:srgbClr val="000000"/>
              </a:solidFill>
              <a:latin typeface="Arial"/>
            </a:endParaRPr>
          </a:p>
          <a:p>
            <a:pPr marL="3294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29400" indent="-32940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s importante que en el orden definido de implementación se tengan en cuenta los posibles recortes, para no perder CU importantes o tener que cambiar el orden de implementación</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66680" y="914400"/>
            <a:ext cx="7772400" cy="54864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proceso de definición de la Arquitectura indica</a:t>
            </a:r>
            <a:endParaRPr b="0" lang="en-US" sz="2600" spc="-1" strike="noStrike">
              <a:solidFill>
                <a:srgbClr val="000000"/>
              </a:solidFill>
              <a:latin typeface="Arial"/>
            </a:endParaRPr>
          </a:p>
          <a:p>
            <a:pPr lvl="1" marL="739800" indent="-282600">
              <a:lnSpc>
                <a:spcPct val="93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actividades que se deben realizar</a:t>
            </a:r>
            <a:endParaRPr b="0" lang="en-US" sz="2400" spc="-1" strike="noStrike">
              <a:solidFill>
                <a:srgbClr val="000000"/>
              </a:solidFill>
              <a:latin typeface="Arial"/>
            </a:endParaRPr>
          </a:p>
          <a:p>
            <a:pPr lvl="1" marL="739800" indent="-282600">
              <a:lnSpc>
                <a:spcPct val="93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ntregables que se deben obtener</a:t>
            </a:r>
            <a:endParaRPr b="0" lang="en-US" sz="2400" spc="-1" strike="noStrike">
              <a:solidFill>
                <a:srgbClr val="000000"/>
              </a:solidFill>
              <a:latin typeface="Arial"/>
            </a:endParaRPr>
          </a:p>
          <a:p>
            <a:pPr lvl="1" marL="739800" indent="-282600">
              <a:lnSpc>
                <a:spcPct val="93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ticipantes y responsabilidades</a:t>
            </a:r>
            <a:endParaRPr b="0" lang="en-US" sz="2400" spc="-1" strike="noStrike">
              <a:solidFill>
                <a:srgbClr val="000000"/>
              </a:solidFill>
              <a:latin typeface="Arial"/>
            </a:endParaRPr>
          </a:p>
          <a:p>
            <a:pPr lvl="1" marL="739800" indent="-282600">
              <a:lnSpc>
                <a:spcPct val="93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ubicación en el tiempo (Fase, iteración, semana)</a:t>
            </a:r>
            <a:endParaRPr b="0" lang="en-US" sz="2400" spc="-1" strike="noStrike">
              <a:solidFill>
                <a:srgbClr val="000000"/>
              </a:solidFill>
              <a:latin typeface="Arial"/>
            </a:endParaRPr>
          </a:p>
          <a:p>
            <a:pPr marL="339840" indent="0">
              <a:lnSpc>
                <a:spcPct val="93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a metodología de definición de la Arquitectura describe </a:t>
            </a:r>
            <a:endParaRPr b="0" lang="en-US" sz="26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mo deben realizarse las actividades que se indican, o sea que se debe hacer para definir la Arquitectura</a:t>
            </a:r>
            <a:endParaRPr b="0" lang="en-US" sz="24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mo debe documentarse dicha definición en el entregable correspondiente</a:t>
            </a:r>
            <a:endParaRPr b="0" lang="en-US" sz="24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p:txBody>
      </p:sp>
      <p:sp>
        <p:nvSpPr>
          <p:cNvPr id="98" name="PlaceHolder 2"/>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Introducción</a:t>
            </a:r>
            <a:endParaRPr b="0" lang="en-US" sz="3200" spc="-1" strike="noStrike">
              <a:solidFill>
                <a:srgbClr val="9933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680" y="685800"/>
            <a:ext cx="7772400" cy="587376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proceso de definición de la Arquitectura sigue, como el proceso general, la forma de trabajo iterativa incremental. </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omo resultado de la Fase Inicial uno de los productos que se debe obtener es la Definición de la Arquitectura, incluyendo: </a:t>
            </a:r>
            <a:endParaRPr b="0" lang="en-US" sz="26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ubsistemas definidos para la modularización del software</a:t>
            </a:r>
            <a:endParaRPr b="0" lang="en-US" sz="22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interfaces de cada uno de los subsistemas, con sus operaciones más importantes</a:t>
            </a:r>
            <a:endParaRPr b="0" lang="en-US" sz="22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poder dar la Fase Inicial como finalizada, se debe tener además de la Arquitectura definida y entregables de otras áreas, el diseño de los CU relevantes que se van a implementar en la 1er. Iteración de la Fase Elaboración.</a:t>
            </a:r>
            <a:endParaRPr b="0" lang="en-US" sz="2600" spc="-1" strike="noStrike">
              <a:solidFill>
                <a:srgbClr val="000000"/>
              </a:solidFill>
              <a:latin typeface="Arial"/>
            </a:endParaRPr>
          </a:p>
        </p:txBody>
      </p:sp>
      <p:sp>
        <p:nvSpPr>
          <p:cNvPr id="100" name="PlaceHolder 2"/>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Proceso definición de la Arquitectura</a:t>
            </a:r>
            <a:endParaRPr b="0" lang="en-US" sz="3200" spc="-1" strike="noStrike">
              <a:solidFill>
                <a:srgbClr val="99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66680" y="838080"/>
            <a:ext cx="7772400" cy="563904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Tener los CU de la 1er. Iteración de Fase Elaboración diseñados permite que en semana 5 los ET comiencen a implementar la Arquitectura</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n paralelo en semana 5, los Analistas y Arquitecto están expandiendo más CU y diseñando los que se van a implementar en la 2da. Iteración de Fase Elaboración, es decir el resto de los CU relevantes a la Arquitectura</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onjuntamente con la implementación se define la verificación de cada subsistema obtenido, su integración y el ejecutable final</a:t>
            </a:r>
            <a:endParaRPr b="0" lang="en-US" sz="2600" spc="-1" strike="noStrike">
              <a:solidFill>
                <a:srgbClr val="000000"/>
              </a:solidFill>
              <a:latin typeface="Arial"/>
            </a:endParaRPr>
          </a:p>
          <a:p>
            <a:pPr lvl="1" marL="7398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p:txBody>
      </p:sp>
      <p:sp>
        <p:nvSpPr>
          <p:cNvPr id="102" name="PlaceHolder 2"/>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Proceso definición de la Arquitectura</a:t>
            </a:r>
            <a:endParaRPr b="0" lang="en-US" sz="3200" spc="-1" strike="noStrike">
              <a:solidFill>
                <a:srgbClr val="9933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grpSp>
        <p:nvGrpSpPr>
          <p:cNvPr id="103" name=""/>
          <p:cNvGrpSpPr/>
          <p:nvPr/>
        </p:nvGrpSpPr>
        <p:grpSpPr>
          <a:xfrm>
            <a:off x="951840" y="927000"/>
            <a:ext cx="7990920" cy="5853240"/>
            <a:chOff x="951840" y="927000"/>
            <a:chExt cx="7990920" cy="5853240"/>
          </a:xfrm>
        </p:grpSpPr>
        <p:sp>
          <p:nvSpPr>
            <p:cNvPr id="104" name=""/>
            <p:cNvSpPr/>
            <p:nvPr/>
          </p:nvSpPr>
          <p:spPr>
            <a:xfrm>
              <a:off x="1143000" y="417528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86400" y="3718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62520" y="3946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43000" y="3794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610480" y="3718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86600" y="39466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42840" y="4403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Semana 5</a:t>
              </a:r>
              <a:endParaRPr b="0" lang="en-US" sz="1600" spc="-1" strike="noStrike">
                <a:solidFill>
                  <a:srgbClr val="000000"/>
                </a:solidFill>
                <a:latin typeface="Times New Roman"/>
              </a:endParaRPr>
            </a:p>
          </p:txBody>
        </p:sp>
        <p:sp>
          <p:nvSpPr>
            <p:cNvPr id="111" name=""/>
            <p:cNvSpPr/>
            <p:nvPr/>
          </p:nvSpPr>
          <p:spPr>
            <a:xfrm>
              <a:off x="2514600" y="3794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95280" y="4403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Semana 4</a:t>
              </a:r>
              <a:endParaRPr b="0" lang="en-US" sz="1600" spc="-1" strike="noStrike">
                <a:solidFill>
                  <a:srgbClr val="000000"/>
                </a:solidFill>
                <a:latin typeface="Times New Roman"/>
              </a:endParaRPr>
            </a:p>
          </p:txBody>
        </p:sp>
        <p:sp>
          <p:nvSpPr>
            <p:cNvPr id="113" name=""/>
            <p:cNvSpPr/>
            <p:nvPr/>
          </p:nvSpPr>
          <p:spPr>
            <a:xfrm>
              <a:off x="4190760" y="4403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Semana 6</a:t>
              </a:r>
              <a:endParaRPr b="0" lang="en-US" sz="1600" spc="-1" strike="noStrike">
                <a:solidFill>
                  <a:srgbClr val="000000"/>
                </a:solidFill>
                <a:latin typeface="Times New Roman"/>
              </a:endParaRPr>
            </a:p>
          </p:txBody>
        </p:sp>
        <p:sp>
          <p:nvSpPr>
            <p:cNvPr id="114" name=""/>
            <p:cNvSpPr/>
            <p:nvPr/>
          </p:nvSpPr>
          <p:spPr>
            <a:xfrm>
              <a:off x="5790960" y="4403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Semana 7</a:t>
              </a:r>
              <a:endParaRPr b="0" lang="en-US" sz="1600" spc="-1" strike="noStrike">
                <a:solidFill>
                  <a:srgbClr val="000000"/>
                </a:solidFill>
                <a:latin typeface="Times New Roman"/>
              </a:endParaRPr>
            </a:p>
          </p:txBody>
        </p:sp>
        <p:sp>
          <p:nvSpPr>
            <p:cNvPr id="115" name=""/>
            <p:cNvSpPr/>
            <p:nvPr/>
          </p:nvSpPr>
          <p:spPr>
            <a:xfrm>
              <a:off x="7241760" y="4403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Semana 8</a:t>
              </a:r>
              <a:endParaRPr b="0" lang="en-US" sz="1600" spc="-1" strike="noStrike">
                <a:solidFill>
                  <a:srgbClr val="000000"/>
                </a:solidFill>
                <a:latin typeface="Times New Roman"/>
              </a:endParaRPr>
            </a:p>
          </p:txBody>
        </p:sp>
        <p:sp>
          <p:nvSpPr>
            <p:cNvPr id="116" name=""/>
            <p:cNvSpPr/>
            <p:nvPr/>
          </p:nvSpPr>
          <p:spPr>
            <a:xfrm>
              <a:off x="951840" y="2803680"/>
              <a:ext cx="1720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specificación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iseño C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emanas 5 y 6</a:t>
              </a:r>
              <a:endParaRPr b="0" lang="en-US" sz="1600" spc="-1" strike="noStrike">
                <a:solidFill>
                  <a:srgbClr val="000000"/>
                </a:solidFill>
                <a:latin typeface="Times New Roman"/>
              </a:endParaRPr>
            </a:p>
          </p:txBody>
        </p:sp>
        <p:sp>
          <p:nvSpPr>
            <p:cNvPr id="117" name=""/>
            <p:cNvSpPr/>
            <p:nvPr/>
          </p:nvSpPr>
          <p:spPr>
            <a:xfrm>
              <a:off x="2514600" y="4937040"/>
              <a:ext cx="300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specificación y diseño CU semanas 7 y 8</a:t>
              </a:r>
              <a:endParaRPr b="0" lang="en-US" sz="1600" spc="-1" strike="noStrike">
                <a:solidFill>
                  <a:srgbClr val="000000"/>
                </a:solidFill>
                <a:latin typeface="Times New Roman"/>
              </a:endParaRPr>
            </a:p>
          </p:txBody>
        </p:sp>
        <p:sp>
          <p:nvSpPr>
            <p:cNvPr id="118" name=""/>
            <p:cNvSpPr/>
            <p:nvPr/>
          </p:nvSpPr>
          <p:spPr>
            <a:xfrm>
              <a:off x="2590920" y="298440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Implementación, integración y prueba CU semanas 5 y 6</a:t>
              </a:r>
              <a:endParaRPr b="0" lang="en-US" sz="1600" spc="-1" strike="noStrike">
                <a:solidFill>
                  <a:srgbClr val="000000"/>
                </a:solidFill>
                <a:latin typeface="Times New Roman"/>
              </a:endParaRPr>
            </a:p>
          </p:txBody>
        </p:sp>
        <p:sp>
          <p:nvSpPr>
            <p:cNvPr id="119" name=""/>
            <p:cNvSpPr/>
            <p:nvPr/>
          </p:nvSpPr>
          <p:spPr>
            <a:xfrm>
              <a:off x="5410080" y="493704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Implementación, integración y prueba CU semanas 7 y 8</a:t>
              </a:r>
              <a:endParaRPr b="0" lang="en-US" sz="1600" spc="-1" strike="noStrike">
                <a:solidFill>
                  <a:srgbClr val="000000"/>
                </a:solidFill>
                <a:latin typeface="Times New Roman"/>
              </a:endParaRPr>
            </a:p>
          </p:txBody>
        </p:sp>
        <p:sp>
          <p:nvSpPr>
            <p:cNvPr id="120" name=""/>
            <p:cNvSpPr/>
            <p:nvPr/>
          </p:nvSpPr>
          <p:spPr>
            <a:xfrm>
              <a:off x="4038480" y="5622840"/>
              <a:ext cx="2819520" cy="533520"/>
            </a:xfrm>
            <a:custGeom>
              <a:avLst/>
              <a:gdLst>
                <a:gd name="textAreaLeft" fmla="*/ 493200 w 2819520"/>
                <a:gd name="textAreaRight" fmla="*/ 2044080 w 28195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b73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2193840"/>
              <a:ext cx="2590920" cy="457200"/>
            </a:xfrm>
            <a:custGeom>
              <a:avLst/>
              <a:gdLst>
                <a:gd name="textAreaLeft" fmla="*/ 453240 w 2590920"/>
                <a:gd name="textAreaRight" fmla="*/ 1878480 w 25909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b73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95960" y="598500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FIN F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ICIAL</a:t>
              </a:r>
              <a:endParaRPr b="0" lang="en-US" sz="1600" spc="-1" strike="noStrike">
                <a:solidFill>
                  <a:srgbClr val="000000"/>
                </a:solidFill>
                <a:latin typeface="Times New Roman"/>
              </a:endParaRPr>
            </a:p>
          </p:txBody>
        </p:sp>
        <p:sp>
          <p:nvSpPr>
            <p:cNvPr id="123" name=""/>
            <p:cNvSpPr/>
            <p:nvPr/>
          </p:nvSpPr>
          <p:spPr>
            <a:xfrm>
              <a:off x="2514600" y="4632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72880" y="1825560"/>
              <a:ext cx="1482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1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jecu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rquitectura</a:t>
              </a:r>
              <a:endParaRPr b="0" lang="en-US" sz="1600" spc="-1" strike="noStrike">
                <a:solidFill>
                  <a:srgbClr val="000000"/>
                </a:solidFill>
                <a:latin typeface="Times New Roman"/>
              </a:endParaRPr>
            </a:p>
          </p:txBody>
        </p:sp>
        <p:sp>
          <p:nvSpPr>
            <p:cNvPr id="125" name=""/>
            <p:cNvSpPr/>
            <p:nvPr/>
          </p:nvSpPr>
          <p:spPr>
            <a:xfrm>
              <a:off x="7235640" y="927000"/>
              <a:ext cx="165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FIN F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LABORACIÓN</a:t>
              </a:r>
              <a:endParaRPr b="0" lang="en-US" sz="1600" spc="-1" strike="noStrike">
                <a:solidFill>
                  <a:srgbClr val="000000"/>
                </a:solidFill>
                <a:latin typeface="Times New Roman"/>
              </a:endParaRPr>
            </a:p>
          </p:txBody>
        </p:sp>
        <p:sp>
          <p:nvSpPr>
            <p:cNvPr id="126" name=""/>
            <p:cNvSpPr/>
            <p:nvPr/>
          </p:nvSpPr>
          <p:spPr>
            <a:xfrm>
              <a:off x="7460640" y="1825560"/>
              <a:ext cx="1482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2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jecu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rquitectura</a:t>
              </a:r>
              <a:endParaRPr b="0" lang="en-US" sz="1600" spc="-1" strike="noStrike">
                <a:solidFill>
                  <a:srgbClr val="000000"/>
                </a:solidFill>
                <a:latin typeface="Times New Roman"/>
              </a:endParaRPr>
            </a:p>
          </p:txBody>
        </p:sp>
        <p:sp>
          <p:nvSpPr>
            <p:cNvPr id="127" name=""/>
            <p:cNvSpPr/>
            <p:nvPr/>
          </p:nvSpPr>
          <p:spPr>
            <a:xfrm flipV="1">
              <a:off x="8610480" y="2650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86400" y="2650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610480" y="15080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25280" y="1612800"/>
              <a:ext cx="137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efini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rquitectura</a:t>
              </a:r>
              <a:endParaRPr b="0" lang="en-US" sz="1600" spc="-1" strike="noStrike">
                <a:solidFill>
                  <a:srgbClr val="000000"/>
                </a:solidFill>
                <a:latin typeface="Times New Roman"/>
              </a:endParaRPr>
            </a:p>
          </p:txBody>
        </p:sp>
        <p:sp>
          <p:nvSpPr>
            <p:cNvPr id="131" name=""/>
            <p:cNvSpPr/>
            <p:nvPr/>
          </p:nvSpPr>
          <p:spPr>
            <a:xfrm>
              <a:off x="1276200" y="2343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t>
              </a:r>
              <a:endParaRPr b="0" lang="en-US" sz="1600" spc="-1" strike="noStrike">
                <a:solidFill>
                  <a:srgbClr val="000000"/>
                </a:solidFill>
                <a:latin typeface="Times New Roman"/>
              </a:endParaRPr>
            </a:p>
          </p:txBody>
        </p:sp>
        <p:sp>
          <p:nvSpPr>
            <p:cNvPr id="132" name=""/>
            <p:cNvSpPr/>
            <p:nvPr/>
          </p:nvSpPr>
          <p:spPr>
            <a:xfrm>
              <a:off x="3229200" y="5956200"/>
              <a:ext cx="1720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Defini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rquitect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revisar, ajustar)</a:t>
              </a:r>
              <a:endParaRPr b="0" lang="en-US" sz="1600" spc="-1" strike="noStrike">
                <a:solidFill>
                  <a:srgbClr val="000000"/>
                </a:solidFill>
                <a:latin typeface="Times New Roman"/>
              </a:endParaRPr>
            </a:p>
          </p:txBody>
        </p:sp>
        <p:sp>
          <p:nvSpPr>
            <p:cNvPr id="133" name=""/>
            <p:cNvSpPr/>
            <p:nvPr/>
          </p:nvSpPr>
          <p:spPr>
            <a:xfrm>
              <a:off x="3303720" y="5575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t>
              </a:r>
              <a:endParaRPr b="0" lang="en-US" sz="1600" spc="-1" strike="noStrike">
                <a:solidFill>
                  <a:srgbClr val="000000"/>
                </a:solidFill>
                <a:latin typeface="Times New Roman"/>
              </a:endParaRPr>
            </a:p>
          </p:txBody>
        </p:sp>
      </p:grpSp>
      <p:sp>
        <p:nvSpPr>
          <p:cNvPr id="134"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Proceso definición de la Arquitectura</a:t>
            </a:r>
            <a:endParaRPr b="0" lang="en-US" sz="3200" spc="-1" strike="noStrike">
              <a:solidFill>
                <a:srgbClr val="99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resultado más importante de la Fase de Elaboración es obtener un ejecutable de la Arquitectura, que permite:</a:t>
            </a:r>
            <a:endParaRPr b="0" lang="en-US" sz="26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asegurar que la Arquitectura definida funciona</a:t>
            </a:r>
            <a:endParaRPr b="0" lang="en-US" sz="24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mitigar riesgos y confirmar que es posible implementar el sistema de esa forma </a:t>
            </a:r>
            <a:endParaRPr b="0" lang="en-US" sz="24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nfirmar o no el alcance según lo obtenido y ajustarlo con el cliente (semana 8)</a:t>
            </a:r>
            <a:endParaRPr b="0" lang="en-US" sz="24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motivar al equipo en la realización del proyecto</a:t>
            </a:r>
            <a:endParaRPr b="0" lang="en-US" sz="24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obre este ejecutable en Fase de Construcción se construyen el resto de los CU que integran el alcance para obtener el sistema final en semana 12  que se verifica e implanta en semanas 13,14</a:t>
            </a:r>
            <a:endParaRPr b="0" lang="en-US" sz="2600" spc="-1" strike="noStrike">
              <a:solidFill>
                <a:srgbClr val="000000"/>
              </a:solidFill>
              <a:latin typeface="Arial"/>
            </a:endParaRPr>
          </a:p>
        </p:txBody>
      </p:sp>
      <p:sp>
        <p:nvSpPr>
          <p:cNvPr id="136" name="PlaceHolder 2"/>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Proceso definición de la Arquitectura</a:t>
            </a:r>
            <a:endParaRPr b="0" lang="en-US" sz="3200" spc="-1" strike="noStrike">
              <a:solidFill>
                <a:srgbClr val="9933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Proceso definición de la Arquitectura</a:t>
            </a:r>
            <a:endParaRPr b="0" lang="en-US" sz="3200" spc="-1" strike="noStrike">
              <a:solidFill>
                <a:srgbClr val="993300"/>
              </a:solidFill>
              <a:latin typeface="Arial"/>
            </a:endParaRPr>
          </a:p>
        </p:txBody>
      </p:sp>
      <p:graphicFrame>
        <p:nvGraphicFramePr>
          <p:cNvPr id="138" name=""/>
          <p:cNvGraphicFramePr/>
          <p:nvPr/>
        </p:nvGraphicFramePr>
        <p:xfrm>
          <a:off x="990720" y="4446720"/>
          <a:ext cx="7924680" cy="1496880"/>
        </p:xfrm>
        <a:graphic>
          <a:graphicData uri="http://schemas.openxmlformats.org/presentationml/2006/ole">
            <p:oleObj progId="Word.Document.12" r:id="rId1" spid="">
              <p:embed/>
              <p:pic>
                <p:nvPicPr>
                  <p:cNvPr id="139" name="" descr=""/>
                  <p:cNvPicPr/>
                  <p:nvPr/>
                </p:nvPicPr>
                <p:blipFill>
                  <a:blip r:embed="rId2"/>
                  <a:stretch/>
                </p:blipFill>
                <p:spPr>
                  <a:xfrm>
                    <a:off x="990720" y="4446720"/>
                    <a:ext cx="7924680" cy="1496880"/>
                  </a:xfrm>
                  <a:prstGeom prst="rect">
                    <a:avLst/>
                  </a:prstGeom>
                  <a:ln w="0">
                    <a:noFill/>
                  </a:ln>
                </p:spPr>
              </p:pic>
            </p:oleObj>
          </a:graphicData>
        </a:graphic>
      </p:graphicFrame>
      <p:graphicFrame>
        <p:nvGraphicFramePr>
          <p:cNvPr id="140" name=""/>
          <p:cNvGraphicFramePr/>
          <p:nvPr/>
        </p:nvGraphicFramePr>
        <p:xfrm>
          <a:off x="990720" y="1828800"/>
          <a:ext cx="7848360" cy="1447920"/>
        </p:xfrm>
        <a:graphic>
          <a:graphicData uri="http://schemas.openxmlformats.org/presentationml/2006/ole">
            <p:oleObj progId="Word.Document.12" r:id="rId3" spid="">
              <p:embed/>
              <p:pic>
                <p:nvPicPr>
                  <p:cNvPr id="141" name="" descr=""/>
                  <p:cNvPicPr/>
                  <p:nvPr/>
                </p:nvPicPr>
                <p:blipFill>
                  <a:blip r:embed="rId4"/>
                  <a:stretch/>
                </p:blipFill>
                <p:spPr>
                  <a:xfrm>
                    <a:off x="990720" y="1828800"/>
                    <a:ext cx="7848360" cy="1447920"/>
                  </a:xfrm>
                  <a:prstGeom prst="rect">
                    <a:avLst/>
                  </a:prstGeom>
                  <a:ln w="0">
                    <a:noFill/>
                  </a:ln>
                </p:spPr>
              </p:pic>
            </p:oleObj>
          </a:graphicData>
        </a:graphic>
      </p:graphicFrame>
      <p:sp>
        <p:nvSpPr>
          <p:cNvPr id="142"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Actividad Definir la Arquitectura en el tiempo</a:t>
            </a: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ntregable SAD en el tiempo</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etodología definición de la Arquitectura</a:t>
            </a:r>
            <a:endParaRPr b="0" lang="en-US" sz="3200" spc="-1" strike="noStrike">
              <a:solidFill>
                <a:srgbClr val="993300"/>
              </a:solidFill>
              <a:latin typeface="Arial"/>
            </a:endParaRPr>
          </a:p>
        </p:txBody>
      </p:sp>
      <p:sp>
        <p:nvSpPr>
          <p:cNvPr id="144"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fontScale="99000"/>
          </a:bodyPr>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definir la Arquitectura se parte del Modelo de Casos de Uso realizado en Requerimientos, estudiando estos casos de uso para identificar</a:t>
            </a:r>
            <a:endParaRPr b="0" lang="en-US" sz="2600" spc="-1" strike="noStrike">
              <a:solidFill>
                <a:srgbClr val="000000"/>
              </a:solidFill>
              <a:latin typeface="Arial"/>
            </a:endParaRPr>
          </a:p>
          <a:p>
            <a:pPr lvl="1" marL="732240" indent="-27972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requerimientos funcionales claves</a:t>
            </a:r>
            <a:endParaRPr b="0" lang="en-US" sz="2400" spc="-1" strike="noStrike">
              <a:solidFill>
                <a:srgbClr val="000000"/>
              </a:solidFill>
              <a:latin typeface="Arial"/>
            </a:endParaRPr>
          </a:p>
          <a:p>
            <a:pPr lvl="1" marL="732240" indent="-27972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requerimientos no funcionales asociados</a:t>
            </a:r>
            <a:endParaRPr b="0" lang="en-US" sz="2400" spc="-1" strike="noStrike">
              <a:solidFill>
                <a:srgbClr val="000000"/>
              </a:solidFill>
              <a:latin typeface="Arial"/>
            </a:endParaRPr>
          </a:p>
          <a:p>
            <a:pPr lvl="1" marL="73224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e identifican los Casos de Uso relevantes a la Arquitectura, que son aquellos que </a:t>
            </a:r>
            <a:endParaRPr b="0" lang="en-US" sz="2600" spc="-1" strike="noStrike">
              <a:solidFill>
                <a:srgbClr val="000000"/>
              </a:solidFill>
              <a:latin typeface="Arial"/>
            </a:endParaRPr>
          </a:p>
          <a:p>
            <a:pPr lvl="1" marL="732240" indent="-27972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representan funcionalidades importantes para el cliente que deben ser provistas por el sistema</a:t>
            </a:r>
            <a:endParaRPr b="0" lang="en-US" sz="2400" spc="-1" strike="noStrike">
              <a:solidFill>
                <a:srgbClr val="000000"/>
              </a:solidFill>
              <a:latin typeface="Arial"/>
            </a:endParaRPr>
          </a:p>
          <a:p>
            <a:pPr lvl="1" marL="732240" indent="-27972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ayudan a mitigar riesgos identificados y considerar aspectos de performance, interacción con otros sistemas, BD, etc.</a:t>
            </a:r>
            <a:endParaRPr b="0" lang="en-US" sz="2400" spc="-1" strike="noStrike">
              <a:solidFill>
                <a:srgbClr val="000000"/>
              </a:solidFill>
              <a:latin typeface="Arial"/>
            </a:endParaRPr>
          </a:p>
          <a:p>
            <a:pPr lvl="1" marL="732240" indent="-27972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ermiten cubrir completamente la ejecución de la arquitectura definida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etodología definición de la Arquitectura</a:t>
            </a:r>
            <a:endParaRPr b="0" lang="en-US" sz="3200" spc="-1" strike="noStrike">
              <a:solidFill>
                <a:srgbClr val="993300"/>
              </a:solidFill>
              <a:latin typeface="Arial"/>
            </a:endParaRPr>
          </a:p>
        </p:txBody>
      </p:sp>
      <p:sp>
        <p:nvSpPr>
          <p:cNvPr id="146" name="PlaceHolder 2"/>
          <p:cNvSpPr>
            <a:spLocks noGrp="1"/>
          </p:cNvSpPr>
          <p:nvPr>
            <p:ph/>
          </p:nvPr>
        </p:nvSpPr>
        <p:spPr>
          <a:xfrm>
            <a:off x="1066680" y="907920"/>
            <a:ext cx="7772400" cy="5492880"/>
          </a:xfrm>
          <a:prstGeom prst="rect">
            <a:avLst/>
          </a:prstGeom>
          <a:noFill/>
          <a:ln w="0">
            <a:noFill/>
          </a:ln>
        </p:spPr>
        <p:txBody>
          <a:bodyPr lIns="90000" rIns="90000" tIns="46800" bIns="46800" anchor="t">
            <a:normAutofit/>
          </a:bodyPr>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Existirán Casos de Uso y/o escenarios de CU que ejercitan los mismos componentes o presentan los mismos riesgos o tienen en cuenta aspectos similares de la arquitectura</a:t>
            </a:r>
            <a:endParaRPr b="0" lang="en-US" sz="26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400" spc="-1" strike="noStrike">
                <a:solidFill>
                  <a:srgbClr val="000000"/>
                </a:solidFill>
                <a:latin typeface="Arial"/>
              </a:rPr>
              <a:t>si se elige A como representante entonces el resto no es relevante a la arquitectura</a:t>
            </a:r>
            <a:endParaRPr b="0" lang="en-US" sz="2400" spc="-1" strike="noStrike">
              <a:solidFill>
                <a:srgbClr val="000000"/>
              </a:solidFill>
              <a:latin typeface="Arial"/>
            </a:endParaRPr>
          </a:p>
          <a:p>
            <a:pPr lvl="1" marL="739800" indent="-282600">
              <a:lnSpc>
                <a:spcPct val="90000"/>
              </a:lnSpc>
              <a:spcBef>
                <a:spcPts val="64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400" spc="-1" strike="noStrike">
                <a:solidFill>
                  <a:srgbClr val="000000"/>
                </a:solidFill>
                <a:latin typeface="Arial"/>
              </a:rPr>
              <a:t>si se elige B como representante entonces ni A ni el resto es relevante a la arquitectura</a:t>
            </a:r>
            <a:endParaRPr b="0" lang="en-US" sz="2400" spc="-1" strike="noStrike">
              <a:solidFill>
                <a:srgbClr val="000000"/>
              </a:solidFill>
              <a:latin typeface="Arial"/>
            </a:endParaRPr>
          </a:p>
          <a:p>
            <a:pPr lvl="1" marL="739800" indent="0">
              <a:lnSpc>
                <a:spcPct val="90000"/>
              </a:lnSpc>
              <a:spcBef>
                <a:spcPts val="649"/>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2600" spc="-1" strike="noStrike">
                <a:solidFill>
                  <a:srgbClr val="000000"/>
                </a:solidFill>
                <a:latin typeface="Arial"/>
              </a:rPr>
              <a:t>Los CU relevantes y los actores involucrados en su ejecución, van en la vista de CU del SAD. A partir de estos CU relevantes se desarrollarán todas las secciones siguientes en el SAD con la información correspondiente. </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elgado</cp:lastModifiedBy>
  <cp:lastPrinted>2006-09-08T13:18:57Z</cp:lastPrinted>
  <dcterms:modified xsi:type="dcterms:W3CDTF">2006-09-08T18:39:02Z</dcterms:modified>
  <cp:revision>18</cp:revision>
  <dc:subject/>
  <dc:title>Gestión de Configuración con CVS, WinCVS  y plug-in para Eclipse</dc:title>
</cp:coreProperties>
</file>