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048-D80E-47AF-8B1E-629AA2A2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008-DFF6-4C94-A5A2-CB998BA7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D61-2606-4CCB-AA68-9D8F6B49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86F-7D05-4A86-B94B-CDE20AFD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7C7C-1BCA-4D8C-9044-2061B37B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5AAE-1F77-4947-A983-2944AFE0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00F8-81C8-46F9-A5BD-5C79D289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8930-ED09-4D0B-AE72-2FD4E262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74FB-A5FC-4325-83B5-9483EA01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0F78-CE6F-43D8-BD12-CD0E18B1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5D9A-4586-4C54-A832-12EEAFED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C6C-8FCC-4F55-8ED7-E0902A5D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3321-20B3-4995-918B-F1934C9F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A5D1-7F72-4654-9EE6-2693FA1D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4FF3-35D6-42E8-A7B3-0BF34AAA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7966-15D4-48BF-AC13-EEEC38FB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A275-6499-4566-B783-30F5A607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281-65C5-4EB3-9285-27FCE7DE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BB4-F9D1-47EA-A6BE-BEE73797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89E-546F-4384-951D-0E53AD88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3EC-D593-4516-B6D9-60E8F9FC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2AB-6C4B-4B43-9D7B-D320FCBA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004-960B-4B67-B3B8-44DA4D82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3C62-6C90-4441-8F00-9A45BFBD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0661-2BBE-49DB-B041-F566B7200D7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2C2A-DF0A-4ED9-B938-32016960206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76132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ffcc66"/>
                </a:solidFill>
                <a:latin typeface="Tahoma"/>
              </a:rPr>
              <a:t>n</a:t>
            </a:r>
            <a:r>
              <a:rPr b="0" lang="es-MX" sz="4000" spc="-1" strike="noStrike">
                <a:solidFill>
                  <a:srgbClr val="ffcc66"/>
                </a:solidFill>
                <a:latin typeface="Tahoma"/>
              </a:rPr>
              <a:t>D-SQL: Un lenguaje Multi-dimensional para Interoperabilidad y OLA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96216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rédéric Gingras y Lacks V.S. Lakshman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ahoma"/>
              </a:rPr>
              <a:t>Federaciones Reales y Modelo Forma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Instancia Aumentada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sociada con la Instancia Abstracta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y su correspondiente instancia Real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se obtiene adjuntando a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la base de datos catálogo asociada a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Tahoma"/>
              </a:rPr>
              <a:t>Teor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ado un esquema de federación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 S.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a cada instancia abstracta de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iste una instancia (aumentada) real equivalente de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y vicevers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ahoma"/>
              </a:rPr>
              <a:t>Sintáxis y Semántica de </a:t>
            </a:r>
            <a:r>
              <a:rPr b="0" i="1" lang="es-MX" sz="4000" spc="-1" strike="noStrike">
                <a:solidFill>
                  <a:srgbClr val="ffcc66"/>
                </a:solidFill>
                <a:latin typeface="Tahoma"/>
              </a:rPr>
              <a:t>n</a:t>
            </a:r>
            <a:r>
              <a:rPr b="0" lang="es-MX" sz="4000" spc="-1" strike="noStrike">
                <a:solidFill>
                  <a:srgbClr val="ffcc66"/>
                </a:solidFill>
                <a:latin typeface="Tahoma"/>
              </a:rPr>
              <a:t>D-SQ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Utiliza las cláusulas clásicas de SQL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LECT, FROM, WHERE, GROUP BY, HAV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corpo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ROM: permite declarar variables que varían entre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nombres de BDs, un conjunto de relaciones o un conjunto de columnas de una o varias rel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WHERE: se introducen dos nuevas restricciones utilizadas para restringir variables de relaciones o columnas con el mismo criterio o concep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grega expresiones de dominio,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tuple_var.clmn_var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c.criterio.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ahoma"/>
              </a:rPr>
              <a:t>Sintáxis y Semántica de </a:t>
            </a:r>
            <a:r>
              <a:rPr b="0" i="1" lang="es-MX" sz="4000" spc="-1" strike="noStrike">
                <a:solidFill>
                  <a:srgbClr val="ffcc66"/>
                </a:solidFill>
                <a:latin typeface="Tahoma"/>
              </a:rPr>
              <a:t>n</a:t>
            </a:r>
            <a:r>
              <a:rPr b="0" lang="es-MX" sz="4000" spc="-1" strike="noStrike">
                <a:solidFill>
                  <a:srgbClr val="ffcc66"/>
                </a:solidFill>
                <a:latin typeface="Tahoma"/>
              </a:rPr>
              <a:t>D-SQL</a:t>
            </a:r>
            <a:r>
              <a:rPr b="0" lang="es-MX" sz="4000" spc="-1" strike="noStrike">
                <a:solidFill>
                  <a:srgbClr val="ffcc66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mite la creación de columnas y relaciones complejas para ello se deben depositar valores de datos como criter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Una consulta nD-SQL es “bien tipeada” si para cada instancia legal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I, Q(I)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es vista también como una instancia legal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66"/>
                </a:solidFill>
                <a:latin typeface="Tahoma"/>
              </a:rPr>
              <a:t>Elementos de la sintáxi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280" y="297000"/>
          <a:ext cx="8755200" cy="5778360"/>
        </p:xfrm>
        <a:graphic>
          <a:graphicData uri="http://schemas.openxmlformats.org/drawingml/2006/table">
            <a:tbl>
              <a:tblPr/>
              <a:tblGrid>
                <a:gridCol w="1209960"/>
                <a:gridCol w="6592680"/>
                <a:gridCol w="952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táxi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uevo elemento de la sintáx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úsu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claració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 variab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b_var     -&gt;var            Nombres de las bds de la fed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_var     db -&gt;var        Relaciones en la base(s)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l_var     db::rel -&gt;var  Columnas de la relación(es) rel en la base(s) b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ple_var db::rel var     Tuplas de la relación(es) rel en la base(s)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iables 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tra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A condición        </a:t>
                      </a: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A </a:t>
                      </a: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cepto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jetos representando el concep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SA condicición   </a:t>
                      </a: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HASA </a:t>
                      </a: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iterio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jetos con el criterio </a:t>
                      </a: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iterio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s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                    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junto de crite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9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trayen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ores 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min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ple_var.attributo   valores del atributo </a:t>
                      </a: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tributo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en las tuplas sobre las q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ple_var toma val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l_var.criterio         valores del criterio </a:t>
                      </a: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iterio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de las columnas sobre las que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l_var toma val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_var.criterio         valores del criterio </a:t>
                      </a: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iterio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de la relación sobre las que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_var toma val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ple_var.col_var     valores del concepto </a:t>
                      </a: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cepto(col_var)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a cada colum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ue varia sobre col_var y cada tupla que varia sobre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ple_v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LECT,</a:t>
                      </a:r>
                      <a:br>
                        <a:rPr sz="1400"/>
                      </a:b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ERE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OUP BY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V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lumn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lej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minio</a:t>
                      </a:r>
                      <a:r>
                        <a:rPr b="0" i="1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[AS </a:t>
                      </a: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iqueta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] FOR (</a:t>
                      </a: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minio</a:t>
                      </a:r>
                      <a:r>
                        <a:rPr b="0" i="1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 </a:t>
                      </a: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{,dominio</a:t>
                      </a:r>
                      <a:r>
                        <a:rPr b="0" i="1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}), i &gt;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LE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lej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LECT (</a:t>
                      </a: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sta_de_objetos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 [AS </a:t>
                      </a: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bel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] FOR </a:t>
                      </a: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minio</a:t>
                      </a:r>
                      <a:r>
                        <a:rPr b="0" i="1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 </a:t>
                      </a:r>
                      <a:r>
                        <a:rPr b="0" i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{,dominio</a:t>
                      </a:r>
                      <a:r>
                        <a:rPr b="0" i="1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} , i &gt;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LE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66"/>
                </a:solidFill>
                <a:latin typeface="Tahoma"/>
              </a:rPr>
              <a:t>Sintáxis para las variables de dimensión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6320" y="152280"/>
          <a:ext cx="8908920" cy="5686560"/>
        </p:xfrm>
        <a:graphic>
          <a:graphicData uri="http://schemas.openxmlformats.org/drawingml/2006/table">
            <a:tbl>
              <a:tblPr/>
              <a:tblGrid>
                <a:gridCol w="1125360"/>
                <a:gridCol w="6838920"/>
                <a:gridCol w="944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táx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uevos elementos de la sintáx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úsu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cla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 variab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m_var   DIM var     dimensiones lógicas asociadas a la consulta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cepto aquellas agrega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iab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tra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_ops    var Op dimensiones         var debe satisfacer la relación O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 = {=,&lt;,&gt;,...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Op var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                           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tancias de var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y var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deben satisfac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                  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relación O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mbresia var IN conj. Dimensiones  la intancia de var debe pertenecer al conjun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                  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 dimensiones especifica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  NOT IN conj. Dim.     la intancia de var no debe pertenec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                  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 conjunto de dimensiones especifica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ecial     var CAN BE NONE           el rango de la variable incluye la constan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                   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ecial 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revi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claración de variables          DIM X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...,X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DIM X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..., DIM X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 dimiensiones múltip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triciones sobre variables     DIMS CAN BE NONE     X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CAN BE NONE,..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 dimiensiones múltiples        DIMS IN conj. Dims.    X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IN conj AND X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IN ..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triciones Transitivas           X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&lt; X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&lt;X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X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&lt; X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  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D X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&lt; X</a:t>
                      </a:r>
                      <a:r>
                        <a:rPr b="0" lang="es-MX" sz="1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LE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ahoma"/>
              </a:rPr>
              <a:t>Procesamiento de Consult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de una extensión del algebra relacional,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Restructuring Relational Algebra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(RR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mite utilizar las propiedades de los operadores para optimizar las expre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utiliza la compatibilidad de RRA con RA para ejecutar parte del procesamiento en las bases de datos remot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ahoma"/>
              </a:rPr>
              <a:t>R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iste en los operadores RA clásicos extendidos con aquellos que permit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laciones y columnas complej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structuración con entrada y/o salida dinámicas de esqu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lumnas o relaciones simples denotadas como en 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lumnas complejas de la forma: concept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criteria =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peradores: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σ, π, x,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ahoma"/>
              </a:rPr>
              <a:t>ADD_COL, REM_COL, ADD_REL, AG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5105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DD_COL, agregar criterio a una colum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M_COL, remover criterio de una colum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DD_REL, agregar criterio a una re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66"/>
                </a:solidFill>
                <a:latin typeface="Tahoma"/>
              </a:rPr>
              <a:t>Teorema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Conmutividad de Ope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DD_COL [REM_COL (table)] = REM_COL [ADD_COL (table)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NOMRES-OP [RES-OP (table)] = RES-OP [NOMRES-OP (table)], RESP-OP = {REM_COL, ADD_COL}, NOMRES-OP cualquier operador no reestructur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cc66"/>
                </a:solidFill>
                <a:latin typeface="Tahoma"/>
              </a:rPr>
              <a:t>Transformación de </a:t>
            </a:r>
            <a:r>
              <a:rPr b="0" i="1" lang="es-MX" sz="3800" spc="-1" strike="noStrike">
                <a:solidFill>
                  <a:srgbClr val="ffcc66"/>
                </a:solidFill>
                <a:latin typeface="Tahoma"/>
              </a:rPr>
              <a:t>n</a:t>
            </a:r>
            <a:r>
              <a:rPr b="0" lang="es-MX" sz="3800" spc="-1" strike="noStrike">
                <a:solidFill>
                  <a:srgbClr val="ffcc66"/>
                </a:solidFill>
                <a:latin typeface="Tahoma"/>
              </a:rPr>
              <a:t>D-SQL a RRA</a:t>
            </a:r>
            <a:endParaRPr b="0" lang="en-US" sz="3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espera que las subconsultas de SQL se tranformen en expresiones 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s nuevas partes de la sintáxis introducen nuevos operadores que derivan 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nuevo FOR, sub-cláusulas del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diciones de WHERE que incluyen crit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obtiene datos para intanciar las tuplas a través de la consulta a fuentes remot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abla de Intanciación de Variables (VIT_V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ahoma"/>
              </a:rPr>
              <a:t>Optimización</a:t>
            </a:r>
            <a:r>
              <a:rPr b="0" lang="es-MX" sz="4000" spc="-1" strike="noStrike">
                <a:solidFill>
                  <a:srgbClr val="ffcc66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Utilización de Heurísticas y equivalenc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quivalencia de expresiones R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DD_COL [REM_COL (table)] = ADD_COL (table), si p3 C (p1 y p4) = p3 – 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DD_COL [REM_COL (table)] = REM_COL (table), si p1 C (p3 y p4) = p3 – 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DD_COL [REM_COL (table)] = table, si p1=p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 general es más eficiente realizar un join o restructura cuanto menos tuplas hay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66"/>
                </a:solidFill>
                <a:latin typeface="Tahoma"/>
              </a:rPr>
              <a:t>Desarrollo de la presentació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Introducció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blema Estudi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otivación del estu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olución propue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od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lenguaje nD-SQ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cesamiento y optimización de Consul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Arquitectura del Siste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2" name="figura6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683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Comparación con trabajo relativ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tensiones SQ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SchemaSQ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ptimización de consultas en Múltiples Bases de Dato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ahoma"/>
              </a:rPr>
              <a:t>Evaluación del artícul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¿Tipo de artícul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¿Es clar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¿Autocontenido?, ¿robusto?, ¿Profundida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¿Se Cumplieron los objetivos plantead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untos fue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untos déb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ahoma"/>
              </a:rPr>
              <a:t>Motivación para el estudi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oporte para la toma de desiciones en una organización compleja necesi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operabilidad entre bases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reación eventual de un data ware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operabilidad de una federación general de Bases de Datos, no necesariamente de la mism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ahoma"/>
              </a:rPr>
              <a:t>Problema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Estudiad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ómo desarrollar un lenguaje de consulta compatible con SQL capáz 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presar consultas en una federación relacional resolviendo confictos entre esquemas que la compon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presar consultas OLAP que comprendan múltiples niveles de agreg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54097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66"/>
                </a:solidFill>
                <a:latin typeface="Tahoma"/>
              </a:rPr>
              <a:t>Federación de BDs relacionales con esquemas heterogéneo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2133720"/>
          <a:ext cx="2852640" cy="2336760"/>
        </p:xfrm>
        <a:graphic>
          <a:graphicData uri="http://schemas.openxmlformats.org/drawingml/2006/table">
            <a:tbl>
              <a:tblPr/>
              <a:tblGrid>
                <a:gridCol w="653760"/>
                <a:gridCol w="797040"/>
                <a:gridCol w="833400"/>
                <a:gridCol w="5684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ck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asu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b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7/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e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.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b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7/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.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01/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.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429000" y="2133720"/>
          <a:ext cx="2898720" cy="1322280"/>
        </p:xfrm>
        <a:graphic>
          <a:graphicData uri="http://schemas.openxmlformats.org/drawingml/2006/table">
            <a:tbl>
              <a:tblPr/>
              <a:tblGrid>
                <a:gridCol w="654120"/>
                <a:gridCol w="797040"/>
                <a:gridCol w="560160"/>
                <a:gridCol w="560520"/>
                <a:gridCol w="3268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ck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b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7/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01/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.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28600" y="304920"/>
          <a:ext cx="6259680" cy="1396800"/>
        </p:xfrm>
        <a:graphic>
          <a:graphicData uri="http://schemas.openxmlformats.org/drawingml/2006/table">
            <a:tbl>
              <a:tblPr/>
              <a:tblGrid>
                <a:gridCol w="797040"/>
                <a:gridCol w="920880"/>
                <a:gridCol w="855360"/>
                <a:gridCol w="779760"/>
                <a:gridCol w="326880"/>
                <a:gridCol w="930240"/>
                <a:gridCol w="865080"/>
                <a:gridCol w="7844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en,ib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en,m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en,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e,ib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e,m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e,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7/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.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5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.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.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01/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.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.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.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.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581280" y="4114800"/>
          <a:ext cx="2244960" cy="1270080"/>
        </p:xfrm>
        <a:graphic>
          <a:graphicData uri="http://schemas.openxmlformats.org/drawingml/2006/table">
            <a:tbl>
              <a:tblPr/>
              <a:tblGrid>
                <a:gridCol w="797040"/>
                <a:gridCol w="560520"/>
                <a:gridCol w="560160"/>
                <a:gridCol w="327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7/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8.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.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01/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.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324480" y="4114800"/>
          <a:ext cx="2244960" cy="1270080"/>
        </p:xfrm>
        <a:graphic>
          <a:graphicData uri="http://schemas.openxmlformats.org/drawingml/2006/table">
            <a:tbl>
              <a:tblPr/>
              <a:tblGrid>
                <a:gridCol w="797040"/>
                <a:gridCol w="560520"/>
                <a:gridCol w="560160"/>
                <a:gridCol w="327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7/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.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.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01/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5.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7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6781680" y="6094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bse :: pr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22860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tse :: quo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47242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nyse :: pr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56386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mse :: 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56386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mse :: 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ahoma"/>
              </a:rPr>
              <a:t>Solución propuest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esentación de un Modelo formal para colección de bases de datos relacionales con esquemas posiblemente heterogen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enguaje n-dimensional de consultas llamado nD-SQL,  capáz 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solver discrepancias esquemátic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oportar un amplio rango de consultas sobre múltiples niveles de agreg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tensión del algebra relacional (RRA) como vehículo para la optimización de consulta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EL MODEL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aracterísticas principa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aptura esquemas heterogéneos de bases de datos relacionales  tratando datos y esquemas simetri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a un estado de primera clase a las tres dimensiones físicas del modelo relacional tradicional: fila, columna y re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a un significado preciso a la representación de n-dimensiones de datos usando tres dimensiones físic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 sencillo incorporar data marts relacionales al mode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quema de Fed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= {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 :: R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(C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,..,C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k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),..., 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m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:: R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m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(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,...,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m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stancias (abstracta) de Fed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-tupla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= &lt;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,rel,col,tup,conc,crit,va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stancias Leg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stancia R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atálogo del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bschemes(db, relid, rel_label, rel_conce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lschemes(relid, attrib, attr_label, attr_conce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riteria(id, criteria, valu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66"/>
                </a:solidFill>
                <a:latin typeface="Tahoma"/>
              </a:rPr>
              <a:t>Base de datos Catalógo asociada con la federación estudiada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685800"/>
          <a:ext cx="2916360" cy="2108160"/>
        </p:xfrm>
        <a:graphic>
          <a:graphicData uri="http://schemas.openxmlformats.org/drawingml/2006/table">
            <a:tbl>
              <a:tblPr/>
              <a:tblGrid>
                <a:gridCol w="511200"/>
                <a:gridCol w="528840"/>
                <a:gridCol w="853920"/>
                <a:gridCol w="1022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_lab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_conce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y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uo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b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962520" y="685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dbsche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09480" y="3505320"/>
          <a:ext cx="3283200" cy="2133360"/>
        </p:xfrm>
        <a:graphic>
          <a:graphicData uri="http://schemas.openxmlformats.org/drawingml/2006/table">
            <a:tbl>
              <a:tblPr/>
              <a:tblGrid>
                <a:gridCol w="528840"/>
                <a:gridCol w="623880"/>
                <a:gridCol w="949320"/>
                <a:gridCol w="1181160"/>
              </a:tblGrid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ttr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ttr_lab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ttr_concep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ck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ck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en_ib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j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191120" y="5257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relsche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638680" y="1371600"/>
          <a:ext cx="1711440" cy="2590920"/>
        </p:xfrm>
        <a:graphic>
          <a:graphicData uri="http://schemas.openxmlformats.org/drawingml/2006/table">
            <a:tbl>
              <a:tblPr/>
              <a:tblGrid>
                <a:gridCol w="362160"/>
                <a:gridCol w="752400"/>
                <a:gridCol w="5968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ite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ck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b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ck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asu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e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ck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b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j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asu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5943600" y="4267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crit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9:15:09Z</dcterms:created>
  <dc:creator> </dc:creator>
  <dc:description/>
  <dc:language>en-US</dc:language>
  <cp:lastModifiedBy>Pablo Marrero</cp:lastModifiedBy>
  <dcterms:modified xsi:type="dcterms:W3CDTF">2002-06-20T05:02:28Z</dcterms:modified>
  <cp:revision>63</cp:revision>
  <dc:subject/>
  <dc:title>nD-SQL: Un lenguaje Multi-dimensional para Interoperabilidad y OLAP</dc:title>
</cp:coreProperties>
</file>