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7.png" ContentType="image/png"/>
  <Override PartName="/ppt/media/image4.png" ContentType="image/png"/>
  <Override PartName="/ppt/media/image13.jpeg" ContentType="image/jpeg"/>
  <Override PartName="/ppt/media/image2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30.png" ContentType="image/png"/>
  <Override PartName="/ppt/media/image5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5.jpeg" ContentType="image/jpeg"/>
  <Override PartName="/ppt/media/image16.png" ContentType="image/png"/>
  <Override PartName="/ppt/media/image18.png" ContentType="image/png"/>
  <Override PartName="/ppt/media/image28.jpeg" ContentType="image/jpeg"/>
  <Override PartName="/ppt/media/image20.jpeg" ContentType="image/jpe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41BC-DB50-4AC4-A6DE-D1318E4F18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Footer Placeholder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352F-D916-4F2E-ABAC-F7E86DFFD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9616-B575-4E25-820C-8CEA270C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50DC-5F33-4473-85BD-F4292C570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F5EE-BD6F-41DD-BADE-68CED772D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6810F-4702-4972-A176-F51FD5041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1E0B9-2358-448F-8D6C-2A892A55F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99CF4-2F74-4D8A-8B61-9933696C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0760F-E682-4680-A092-D6A8DE44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BCECD-6B65-46AF-B585-A7366C2E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EFB12-AB07-4CE1-9108-CDB0724A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CD430-5FAD-4557-8843-932649175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3D01-C789-4D6D-B48A-87788E0CB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3584-ED6B-45A7-A84E-8C38B0BBC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CEB3-A94A-41C6-A273-3BCB579C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3C84E-5D58-410A-BF8E-7D5620DB8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0BEA5-CD31-4945-A09F-E295A56AD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B31AE-311F-4262-B565-66D92FBB1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5C053-BEB9-4447-A59B-90A063071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A55B77-2BDE-45A0-AFAD-B91E0EAA1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380C0E-46AE-411C-B935-63D814A6C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25E07F-7402-44DA-93B8-FF5589949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93115-163C-4FD7-AA44-BC6905B2E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1AEB-5584-4A80-8FC6-089C85CFA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FF307-1C2F-461F-AE1F-AD0A88261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EB84F-4653-48AA-A6C6-E7D90354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E16F02-AE63-49DC-897C-A54C99E86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D98439-6AA7-49E6-8761-F0214920A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3F4A0-711C-4195-A69C-169DE058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DAC7-BA90-46BB-9EB3-2B86C92E4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BBE1-1D56-4C35-A5C9-21BC0949A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F7980F-3BA9-4126-B585-36D94426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51501C-B481-4130-B2D2-4BCECB16B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522668-BCBA-47D9-B17C-6E970DA5B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28DF-CD5D-437C-AFF7-6E780FF34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6C7C1-6C2F-4A16-8AB3-DC43E7CC9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5932C8-C343-4A7E-BF40-45D11983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8DFD5-43F6-441F-A969-CE58D3E57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B7045-9827-4B18-AFF4-45D8E9783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60654-0C82-4C2A-9D0F-0DD7AECC4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71EE19-1ED3-4455-B9A1-41113B12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D5AC2A-D9FD-425C-898B-DDBF89FBA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64505-9255-4098-BA93-CB84CCAF4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8A6F7-8048-45AC-AAEA-0E2A65D64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6218C-5075-44B5-918A-F110A184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53E0-4B8B-4CA2-8A5B-B143DF82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F1901B-59BD-42A9-B5DA-1D78C6C3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F71BD3-035B-41D1-84F7-8A3B6AB6A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B9FE4-65F0-4479-A024-40981805F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F36F82-BBB5-4713-A0A2-6EA9CC4B3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D3E59F-A1C3-4B3B-90F1-502BE1209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D31F29-F3B3-4DA6-997D-D4DE8FE4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73D9F-9517-408C-92D7-1A155D83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87DF5-C4B5-4DF2-8DC9-08E2863DB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BC23BF-D6FE-40F2-B796-68DD5C26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1550-0CCF-4172-B3F1-B1C096357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F0A1-80DB-4E37-B7FB-3B4F36DD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1327A-2655-4FBD-AF5A-C3702F6AE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2CB4A8-859E-4FFC-8AE9-A759E8C38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FF0983-DD19-42D0-9C2A-78236360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E0B961-5510-40A2-B9D1-6E41DB1C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A1DD89-B276-4EAC-B4E2-36318FE1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24B5BF-96CD-4F07-84A6-BE73BA43E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5E2D0-94A2-4DD9-A7A2-01007A04E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F9D862-C090-4C95-BEEF-198D3DB2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01CCF-F21C-46DB-971E-12B9806A2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1AF01-097A-47EF-AE59-33CF0F4D4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BD11-9EA1-4593-A97A-8D1696A3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02DA54-CE7F-4011-B80E-77C174B29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7564E6-F2CF-4656-93F8-33DCB8319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742378-0867-4332-8D82-56715DB7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BB08E-DA6F-49B4-8A07-495A18613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6CF6-0F95-4D12-8E39-D4B285C5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F53CC-7093-4309-9C32-DF63713795D7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80519-CF84-48D0-85BA-1350E6EEDAD7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1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54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7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Straight Connector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60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2FA64-2317-4327-ABAA-4CA9C23560F2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04E-66BC-42DE-BECB-DD6F996B00C2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1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D5F43-B56F-400D-882C-C9DEC439ADDE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3FAA-03FF-49FE-B1A8-2E1657A38F8A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3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4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7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60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Straight Connector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63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F5CD7-F7F3-456E-9542-A6C24AAF0A21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C9F0-EDB8-4C22-8C5B-80FCAC4543D5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6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7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10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13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Straight Connector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6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E946-4C98-4E7D-96BF-AAC355B0E9CF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0F173-F082-4B7D-B76C-2A381786ABC0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Straight Connector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0" name="Straight Connector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Straight Connector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63" name="Straight Connector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5" name="Straight Connector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6" name="Straight Connector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Straight Connector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9" name="Straight Connector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8A15D-D6A7-49EA-80C9-9A0A041C6D83}" type="datetime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D44F-9580-43FC-B8A3-B1116D5FF499}" type="slidenum">
              <a:rPr b="0" lang="en-US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fing.edu.uy/~pgomni" TargetMode="External"/><Relationship Id="rId2" Type="http://schemas.openxmlformats.org/officeDocument/2006/relationships/hyperlink" Target="http://www.airtrax.com/" TargetMode="External"/><Relationship Id="rId3" Type="http://schemas.openxmlformats.org/officeDocument/2006/relationships/hyperlink" Target="http://www.holonomicwheels.com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353880" y="2262240"/>
            <a:ext cx="8466120" cy="1322280"/>
          </a:xfrm>
          <a:prstGeom prst="rect">
            <a:avLst/>
          </a:prstGeom>
          <a:ln w="0">
            <a:noFill/>
          </a:ln>
        </p:spPr>
      </p:pic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328320" y="35863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43329"/>
                </a:solidFill>
                <a:latin typeface="Franklin Gothic Book"/>
              </a:rPr>
              <a:t>Control y Comportamiento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1" name="Picture 4" descr=""/>
          <p:cNvPicPr/>
          <p:nvPr/>
        </p:nvPicPr>
        <p:blipFill>
          <a:blip r:embed="rId2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22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5"/>
          <p:cNvSpPr/>
          <p:nvPr/>
        </p:nvSpPr>
        <p:spPr>
          <a:xfrm>
            <a:off x="714240" y="4714920"/>
            <a:ext cx="78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fael Sisto, Santiago Mart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255600" y="4284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Ventajas: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Permite efectuar trayectorias compleja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Uso en ambientes reducidos o con obstáculo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Facilidad para planificar trayectoria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cxnSp>
        <p:nvCxnSpPr>
          <p:cNvPr id="365" name="Straight Arrow Connector 4"/>
          <p:cNvCxnSpPr/>
          <p:nvPr/>
        </p:nvCxnSpPr>
        <p:spPr>
          <a:xfrm flipH="1">
            <a:off x="4071240" y="2642760"/>
            <a:ext cx="1080" cy="1143720"/>
          </a:xfrm>
          <a:prstGeom prst="straightConnector1">
            <a:avLst/>
          </a:prstGeom>
          <a:ln w="88920">
            <a:solidFill>
              <a:srgbClr val="f0a22e"/>
            </a:solidFill>
            <a:miter/>
            <a:tailEnd len="med" type="arrow" w="med"/>
          </a:ln>
        </p:spPr>
      </p:cxnSp>
      <p:pic>
        <p:nvPicPr>
          <p:cNvPr id="366" name="Picture 4" descr=""/>
          <p:cNvPicPr/>
          <p:nvPr/>
        </p:nvPicPr>
        <p:blipFill>
          <a:blip r:embed="rId2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67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133200" y="42840"/>
            <a:ext cx="8864640" cy="148752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Desventajas (I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Ruedas complejas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e3b30"/>
                </a:solidFill>
                <a:latin typeface="Franklin Gothic Book"/>
              </a:rPr>
              <a:t>Poca capacidad de carga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e3b30"/>
                </a:solidFill>
                <a:latin typeface="Franklin Gothic Book"/>
              </a:rPr>
              <a:t>Mayor costo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70" name="Picture 4" descr=""/>
          <p:cNvPicPr/>
          <p:nvPr/>
        </p:nvPicPr>
        <p:blipFill>
          <a:blip r:embed="rId2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71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115920" y="23760"/>
            <a:ext cx="8862840" cy="148752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Desventajas (II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Mayor dificultad para atravesar desniveles de la superficie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74" name="Picture 4" descr=""/>
          <p:cNvPicPr/>
          <p:nvPr/>
        </p:nvPicPr>
        <p:blipFill>
          <a:blip r:embed="rId2"/>
          <a:stretch/>
        </p:blipFill>
        <p:spPr>
          <a:xfrm>
            <a:off x="4429080" y="2643120"/>
            <a:ext cx="3203640" cy="39290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76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Picture 7" descr=""/>
          <p:cNvPicPr/>
          <p:nvPr/>
        </p:nvPicPr>
        <p:blipFill>
          <a:blip r:embed="rId4"/>
          <a:stretch/>
        </p:blipFill>
        <p:spPr>
          <a:xfrm>
            <a:off x="157320" y="3286080"/>
            <a:ext cx="3840120" cy="20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8" name="Title 1" descr=""/>
          <p:cNvPicPr/>
          <p:nvPr/>
        </p:nvPicPr>
        <p:blipFill>
          <a:blip r:embed="rId1"/>
          <a:stretch/>
        </p:blipFill>
        <p:spPr>
          <a:xfrm>
            <a:off x="133200" y="42840"/>
            <a:ext cx="8864640" cy="1487520"/>
          </a:xfrm>
          <a:prstGeom prst="rect">
            <a:avLst/>
          </a:prstGeom>
          <a:ln w="0">
            <a:noFill/>
          </a:ln>
        </p:spPr>
      </p:pic>
      <p:pic>
        <p:nvPicPr>
          <p:cNvPr id="379" name="Content Placeholder 6" descr="perdida vel.jpg"/>
          <p:cNvPicPr/>
          <p:nvPr/>
        </p:nvPicPr>
        <p:blipFill>
          <a:blip r:embed="rId2"/>
          <a:stretch/>
        </p:blipFill>
        <p:spPr>
          <a:xfrm>
            <a:off x="1285920" y="3143160"/>
            <a:ext cx="6000840" cy="324504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4" descr=""/>
          <p:cNvPicPr/>
          <p:nvPr/>
        </p:nvPicPr>
        <p:blipFill>
          <a:blip r:embed="rId3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81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304920" y="1554120"/>
            <a:ext cx="833904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Desventajas (II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000000"/>
                </a:solidFill>
                <a:latin typeface="Arial"/>
              </a:rPr>
              <a:t>Menor velocidad máxima en trayectorias rectas respecto a los vehículos tradicionales. </a:t>
            </a:r>
            <a:r>
              <a:rPr b="0" lang="es-UY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Control de un robot omnidireccional de tres ruedas.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Planificar y ejecutar trayectorias compleja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Posible creación de un equipo de futbol de robots omnidireccional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85" name="Picture 4" descr=""/>
          <p:cNvPicPr/>
          <p:nvPr/>
        </p:nvPicPr>
        <p:blipFill>
          <a:blip r:embed="rId2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86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88" name="Video2.avi" descr=""/>
          <p:cNvPicPr/>
          <p:nvPr/>
        </p:nvPicPr>
        <p:blipFill>
          <a:blip r:embed="rId2"/>
          <a:stretch/>
        </p:blipFill>
        <p:spPr>
          <a:xfrm>
            <a:off x="1500120" y="1803240"/>
            <a:ext cx="5500800" cy="412596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4" descr=""/>
          <p:cNvPicPr/>
          <p:nvPr/>
        </p:nvPicPr>
        <p:blipFill>
          <a:blip r:embed="rId3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90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3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285840" y="10000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4000" spc="-1" strike="noStrike">
                <a:solidFill>
                  <a:srgbClr val="4e3b30"/>
                </a:solidFill>
                <a:latin typeface="Franklin Gothic Book"/>
              </a:rPr>
              <a:t>¿PREGUNTAS?</a:t>
            </a:r>
            <a:endParaRPr b="0" lang="en-US" sz="40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Referenci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1"/>
              </a:rPr>
              <a:t>www.fing.edu.uy/~pgomni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2"/>
              </a:rPr>
              <a:t>www.airtrax.co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05600" indent="-2714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ad1f1f"/>
                </a:solidFill>
                <a:uFillTx/>
                <a:latin typeface="Franklin Gothic Book"/>
                <a:hlinkClick r:id="rId3"/>
              </a:rPr>
              <a:t>www.holonomicwheels.com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25800" indent="-3258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92" name="Picture 4" descr=""/>
          <p:cNvPicPr/>
          <p:nvPr/>
        </p:nvPicPr>
        <p:blipFill>
          <a:blip r:embed="rId4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93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¿Qué es un robot omnidireccional?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Principales componente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Estructura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Ventajas y desventaja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Hacia donde vamo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Preguntas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26" name="Picture 4" descr=""/>
          <p:cNvPicPr/>
          <p:nvPr/>
        </p:nvPicPr>
        <p:blipFill>
          <a:blip r:embed="rId2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27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Title 1" descr=""/>
          <p:cNvPicPr/>
          <p:nvPr/>
        </p:nvPicPr>
        <p:blipFill>
          <a:blip r:embed="rId1"/>
          <a:stretch/>
        </p:blipFill>
        <p:spPr>
          <a:xfrm>
            <a:off x="133200" y="268200"/>
            <a:ext cx="8864640" cy="10368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Robot que puede desplazarse en cualquier dirección en todo momento sin importar la orientación inicial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2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31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pic>
        <p:nvPicPr>
          <p:cNvPr id="333" name="Content Placeholder 3" descr="movimiento omni.JPG"/>
          <p:cNvPicPr/>
          <p:nvPr/>
        </p:nvPicPr>
        <p:blipFill>
          <a:blip r:embed="rId2"/>
          <a:stretch/>
        </p:blipFill>
        <p:spPr>
          <a:xfrm>
            <a:off x="338040" y="1714680"/>
            <a:ext cx="8347320" cy="40716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4" descr=""/>
          <p:cNvPicPr/>
          <p:nvPr/>
        </p:nvPicPr>
        <p:blipFill>
          <a:blip r:embed="rId3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35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Title 1" descr=""/>
          <p:cNvPicPr/>
          <p:nvPr/>
        </p:nvPicPr>
        <p:blipFill>
          <a:blip r:embed="rId1"/>
          <a:stretch/>
        </p:blipFill>
        <p:spPr>
          <a:xfrm>
            <a:off x="133200" y="450720"/>
            <a:ext cx="8864640" cy="1060560"/>
          </a:xfrm>
          <a:prstGeom prst="rect">
            <a:avLst/>
          </a:prstGeom>
          <a:ln w="0">
            <a:noFill/>
          </a:ln>
        </p:spPr>
      </p:pic>
      <p:pic>
        <p:nvPicPr>
          <p:cNvPr id="337" name="Video1.wmv" descr=""/>
          <p:cNvPicPr/>
          <p:nvPr/>
        </p:nvPicPr>
        <p:blipFill>
          <a:blip r:embed="rId2"/>
          <a:stretch/>
        </p:blipFill>
        <p:spPr>
          <a:xfrm>
            <a:off x="500040" y="1285920"/>
            <a:ext cx="6953400" cy="52149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4" descr=""/>
          <p:cNvPicPr/>
          <p:nvPr/>
        </p:nvPicPr>
        <p:blipFill>
          <a:blip r:embed="rId3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39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3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RUEDAS (I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Convenciona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                    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4e3b30"/>
                </a:solidFill>
                <a:latin typeface="Franklin Gothic Book"/>
              </a:rPr>
              <a:t>        </a:t>
            </a:r>
            <a:r>
              <a:rPr b="0" lang="es-UY" sz="2000" spc="-1" strike="noStrike">
                <a:solidFill>
                  <a:srgbClr val="4e3b30"/>
                </a:solidFill>
                <a:latin typeface="Franklin Gothic Book"/>
              </a:rPr>
              <a:t>Simple              Forward Offset Steered      Lateral Offset Steered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2" name="Picture 3" descr="untitled1.JPG"/>
          <p:cNvPicPr/>
          <p:nvPr/>
        </p:nvPicPr>
        <p:blipFill>
          <a:blip r:embed="rId2"/>
          <a:stretch/>
        </p:blipFill>
        <p:spPr>
          <a:xfrm>
            <a:off x="3500280" y="2786040"/>
            <a:ext cx="2019600" cy="23194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" descr="untitled5.JPG"/>
          <p:cNvPicPr/>
          <p:nvPr/>
        </p:nvPicPr>
        <p:blipFill>
          <a:blip r:embed="rId3"/>
          <a:stretch/>
        </p:blipFill>
        <p:spPr>
          <a:xfrm>
            <a:off x="928800" y="2786040"/>
            <a:ext cx="1724040" cy="2314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5" descr="untitled.JPG"/>
          <p:cNvPicPr/>
          <p:nvPr/>
        </p:nvPicPr>
        <p:blipFill>
          <a:blip r:embed="rId4"/>
          <a:stretch/>
        </p:blipFill>
        <p:spPr>
          <a:xfrm>
            <a:off x="6572160" y="2714760"/>
            <a:ext cx="1724040" cy="23572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4" descr=""/>
          <p:cNvPicPr/>
          <p:nvPr/>
        </p:nvPicPr>
        <p:blipFill>
          <a:blip r:embed="rId5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46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RUEDAS (II)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Especiales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    </a:t>
            </a:r>
            <a:r>
              <a:rPr b="0" lang="es-UY" sz="2800" spc="-1" strike="noStrike">
                <a:solidFill>
                  <a:srgbClr val="4e3b30"/>
                </a:solidFill>
                <a:latin typeface="Franklin Gothic Book"/>
              </a:rPr>
              <a:t>Simple</a:t>
            </a:r>
            <a:r>
              <a:rPr b="0" lang="es-UY" sz="2400" spc="-1" strike="noStrike">
                <a:solidFill>
                  <a:srgbClr val="4e3b30"/>
                </a:solidFill>
                <a:latin typeface="Franklin Gothic Book"/>
              </a:rPr>
              <a:t>                   Doble                      Mecanum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49" name="Picture 4" descr="untitled4.JPG"/>
          <p:cNvPicPr/>
          <p:nvPr/>
        </p:nvPicPr>
        <p:blipFill>
          <a:blip r:embed="rId2"/>
          <a:stretch/>
        </p:blipFill>
        <p:spPr>
          <a:xfrm>
            <a:off x="5946840" y="2643120"/>
            <a:ext cx="2768400" cy="242892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3"/>
          <a:stretch/>
        </p:blipFill>
        <p:spPr>
          <a:xfrm>
            <a:off x="285840" y="2690640"/>
            <a:ext cx="5810040" cy="23814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4" descr=""/>
          <p:cNvPicPr/>
          <p:nvPr/>
        </p:nvPicPr>
        <p:blipFill>
          <a:blip r:embed="rId4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52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 txBox="1"/>
          <p:nvPr/>
        </p:nvSpPr>
        <p:spPr>
          <a:xfrm>
            <a:off x="285840" y="13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Robots de tres ruedas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355" name="Picture 2" descr="C:\Documents and Settings\San\Desktop\11918594665781.jpg"/>
          <p:cNvPicPr/>
          <p:nvPr/>
        </p:nvPicPr>
        <p:blipFill>
          <a:blip r:embed="rId2"/>
          <a:stretch/>
        </p:blipFill>
        <p:spPr>
          <a:xfrm>
            <a:off x="2071800" y="1998720"/>
            <a:ext cx="5214960" cy="450216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4" descr=""/>
          <p:cNvPicPr/>
          <p:nvPr/>
        </p:nvPicPr>
        <p:blipFill>
          <a:blip r:embed="rId3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57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Title 1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2" descr=""/>
          <p:cNvPicPr/>
          <p:nvPr/>
        </p:nvPicPr>
        <p:blipFill>
          <a:blip r:embed="rId2"/>
          <a:stretch/>
        </p:blipFill>
        <p:spPr>
          <a:xfrm>
            <a:off x="714240" y="1928880"/>
            <a:ext cx="6859800" cy="4500360"/>
          </a:xfrm>
          <a:prstGeom prst="rect">
            <a:avLst/>
          </a:prstGeom>
          <a:ln w="0">
            <a:noFill/>
          </a:ln>
        </p:spPr>
      </p:pic>
      <p:sp>
        <p:nvSpPr>
          <p:cNvPr id="360" name="Content Placeholder 2"/>
          <p:cNvSpPr/>
          <p:nvPr/>
        </p:nvSpPr>
        <p:spPr>
          <a:xfrm>
            <a:off x="214200" y="1285920"/>
            <a:ext cx="8686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200" spc="-1" strike="noStrike">
                <a:solidFill>
                  <a:srgbClr val="4e3b30"/>
                </a:solidFill>
                <a:latin typeface="Franklin Gothic Book"/>
              </a:rPr>
              <a:t>Robots de cuatro rue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4" descr=""/>
          <p:cNvPicPr/>
          <p:nvPr/>
        </p:nvPicPr>
        <p:blipFill>
          <a:blip r:embed="rId3"/>
          <a:stretch/>
        </p:blipFill>
        <p:spPr>
          <a:xfrm>
            <a:off x="7715160" y="6143760"/>
            <a:ext cx="1238400" cy="409320"/>
          </a:xfrm>
          <a:prstGeom prst="rect">
            <a:avLst/>
          </a:prstGeom>
          <a:ln w="0">
            <a:noFill/>
          </a:ln>
        </p:spPr>
      </p:pic>
      <p:sp>
        <p:nvSpPr>
          <p:cNvPr id="362" name="Footer Placeholder 6"/>
          <p:cNvSpPr/>
          <p:nvPr/>
        </p:nvSpPr>
        <p:spPr>
          <a:xfrm>
            <a:off x="4124160" y="6576840"/>
            <a:ext cx="494856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ranklin Gothic Book"/>
              </a:rPr>
              <a:t>Quinto campeonato uruguayo de sumo de robots, sumo|uy 2008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2T19:36:28Z</dcterms:created>
  <dc:creator>San</dc:creator>
  <dc:description/>
  <dc:language>en-US</dc:language>
  <cp:lastModifiedBy>San</cp:lastModifiedBy>
  <dcterms:modified xsi:type="dcterms:W3CDTF">2008-11-25T17:36:29Z</dcterms:modified>
  <cp:revision>49</cp:revision>
  <dc:subject/>
  <dc:title>Slide 1</dc:title>
</cp:coreProperties>
</file>