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D36-D846-41AC-A41E-BB88E2CB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170-1046-4A4C-A600-32CFE337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4E2-0D1E-4D6D-B666-8644DD0C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0AD-7D97-4DFF-B978-8198C140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383C-B015-4325-9592-874FAEB2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501C-B804-45FE-8251-553F3F08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C5CE-22E4-4CD1-9681-573605CA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3433-37FB-4AC4-BC8A-EDD07644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9D1F-188F-4C8B-BEE3-7A3AB835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D640-00C6-4ED6-BA95-9361E7AD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CA6C-6BC0-40FD-BEE2-8EF09BA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DA7-9BCB-4DA8-B818-2696449F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3AEA-3D57-4216-921B-2473BB0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AA25-A662-4658-A8A5-9BAC2128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CBDF-888D-406B-897A-A2E94E4C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C96-3B44-4990-845D-55AA01B8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7666-5A75-43B6-B7B6-1EE76F47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432-63C8-4DFE-BA82-E92D9B1B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1BD-1538-4D23-BB8C-1831F1E9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4A3-1EBE-4E2C-8B8D-8CCD650C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197-2CE5-44CC-8CE3-A478E354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0B7-4640-4FA6-85E1-31EF7D7B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771-E654-494B-9F4A-878C1D49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4C5-37E6-42FE-A079-533B5F99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1D76-11A2-4EDF-A953-90C2255191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63AD-8FEF-47C5-ACC2-2420E232D2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252720" y="1196640"/>
            <a:ext cx="9937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6000" spc="-1" strike="noStrike">
                <a:solidFill>
                  <a:srgbClr val="ffffff"/>
                </a:solidFill>
                <a:latin typeface="Arial Black"/>
              </a:rPr>
              <a:t>CONDENSACIÓN</a:t>
            </a:r>
            <a:br>
              <a:rPr sz="6000"/>
            </a:br>
            <a:r>
              <a:rPr b="0" lang="es-UY" sz="6000" spc="-1" strike="noStrike">
                <a:solidFill>
                  <a:srgbClr val="ffffff"/>
                </a:solidFill>
                <a:latin typeface="Arial Black"/>
              </a:rPr>
              <a:t>de </a:t>
            </a:r>
            <a:br>
              <a:rPr sz="6000"/>
            </a:br>
            <a:r>
              <a:rPr b="0" lang="es-UY" sz="6000" spc="-1" strike="noStrike">
                <a:solidFill>
                  <a:srgbClr val="ffffff"/>
                </a:solidFill>
                <a:latin typeface="Arial Black"/>
              </a:rPr>
              <a:t>BOSE – EINSTEIN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obtien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626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Enfriamiento por Lá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Ajuste de la longitud de o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772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obtien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626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Enfriamiento por Lá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Utilizando el Efecto Dopp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4216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obtiene el BEC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6264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Enfriamiento por Lá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Melazas óp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268360" y="2224080"/>
            <a:ext cx="4680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731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obtien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Trampas Magné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532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obtien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7830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Enfriamiento evapor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313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96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obtien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718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Enfriamiento evapor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19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6784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obtien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4560840" cy="5157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124000" y="2144880"/>
            <a:ext cx="45356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obtiene el BEC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456084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v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6553440" cy="4367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51280" y="5445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400 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4869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200 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38920" y="40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50 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v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03280" y="1521000"/>
            <a:ext cx="6408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Un poco de Historia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16080" y="1700280"/>
            <a:ext cx="3824280" cy="424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v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61930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Un poco de Historia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680" y="2349360"/>
            <a:ext cx="419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ffffff"/>
                </a:solidFill>
                <a:latin typeface="Arial"/>
              </a:rPr>
              <a:t>S. N. B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11970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19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250380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Un poco de Historia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2349360"/>
            <a:ext cx="419400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ffffff"/>
                </a:solidFill>
                <a:latin typeface="Arial"/>
              </a:rPr>
              <a:t>S. N. B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2920" y="2349360"/>
            <a:ext cx="41943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ffffff"/>
                </a:solidFill>
                <a:latin typeface="Arial"/>
              </a:rPr>
              <a:t>A. Eins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11970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19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2503800" cy="331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516640" y="2924280"/>
            <a:ext cx="22971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Un poco de Historia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2349360"/>
            <a:ext cx="441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ffffff"/>
                </a:solidFill>
                <a:latin typeface="Arial"/>
              </a:rPr>
              <a:t>Cornell y Wieman (JI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2349360"/>
            <a:ext cx="419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ffffff"/>
                </a:solidFill>
                <a:latin typeface="Arial"/>
              </a:rPr>
              <a:t>Ketterle (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11970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49440" y="3041640"/>
            <a:ext cx="2266920" cy="348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2938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Temperatura y Cero Absolu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41720" y="1484280"/>
            <a:ext cx="4365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104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Temperatura y Cero Absolu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59240" y="1341360"/>
            <a:ext cx="24098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68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Qué es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71600" y="1268280"/>
            <a:ext cx="4524480" cy="532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4104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b7e7ff"/>
                </a:solidFill>
                <a:latin typeface="Arial"/>
              </a:rPr>
              <a:t>¿Cómo se obtiene el BEC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5206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Enfriamiento por Lá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2241720"/>
            <a:ext cx="9144000" cy="461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312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8:45:10Z</dcterms:created>
  <dc:creator>.</dc:creator>
  <dc:description/>
  <dc:language>en-US</dc:language>
  <cp:lastModifiedBy>.</cp:lastModifiedBy>
  <dcterms:modified xsi:type="dcterms:W3CDTF">2007-10-10T18:45:13Z</dcterms:modified>
  <cp:revision>5</cp:revision>
  <dc:subject/>
  <dc:title>Condensación  de  Bose – Einstein</dc:title>
</cp:coreProperties>
</file>